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5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30480" y="0"/>
            <a:ext cx="3003840" cy="45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29200"/>
            <a:ext cx="3003480" cy="451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30480" y="8629200"/>
            <a:ext cx="3003840" cy="451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8476F0-FFE9-4134-BF16-694DF63D7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3930480" y="8629200"/>
            <a:ext cx="3003840" cy="451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BC2216-0761-4495-800F-8FC35DA40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-360" y="8629200"/>
            <a:ext cx="3003480" cy="451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-360" y="0"/>
            <a:ext cx="3003480" cy="45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930480" y="0"/>
            <a:ext cx="3003840" cy="45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06360" y="687240"/>
            <a:ext cx="4523040" cy="33926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97836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8288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9783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9783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8288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8288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9783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9783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9783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8288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8288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9783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8288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9783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8288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97836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140e8e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140e8e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140e8e"/>
              </a:buClr>
              <a:buFont typeface="Times New Roman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140e8e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66680"/>
            <a:ext cx="8763120" cy="0"/>
          </a:xfrm>
          <a:prstGeom prst="line">
            <a:avLst/>
          </a:prstGeom>
          <a:ln w="85680">
            <a:solidFill>
              <a:srgbClr val="8136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64640" y="525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6760" y="843120"/>
            <a:ext cx="7347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LIBRARIES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teragency Program of Research an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98680" y="2317680"/>
            <a:ext cx="6261120" cy="2166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6240" y="5969160"/>
            <a:ext cx="28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hen M. Griff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Science Foun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52400" y="482292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ww.dli2.nsf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85480" y="482760"/>
            <a:ext cx="46825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 Challeng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5480" y="3225960"/>
            <a:ext cx="939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37440" y="3165480"/>
            <a:ext cx="111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rmaceu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4200" y="331776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70720" y="2743200"/>
            <a:ext cx="609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00160" y="2682720"/>
            <a:ext cx="781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9080" y="2835360"/>
            <a:ext cx="67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78400" y="3657600"/>
            <a:ext cx="62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08560" y="3597120"/>
            <a:ext cx="76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07840" y="3749760"/>
            <a:ext cx="79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78320" y="4832280"/>
            <a:ext cx="495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98640" y="1396800"/>
            <a:ext cx="0" cy="47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1600" y="6184800"/>
            <a:ext cx="520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00" y="3759120"/>
            <a:ext cx="4000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9000" y="3720960"/>
            <a:ext cx="419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uter Speed in Billion of Operations per Se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62360" y="632448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88560" y="62784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97320" y="632448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23880" y="62784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9680" y="633744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46240" y="629136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55000" y="633744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1200" y="629136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05120" y="4743360"/>
            <a:ext cx="19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729320" y="473688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30320" y="3790800"/>
            <a:ext cx="28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8000" y="3790800"/>
            <a:ext cx="0" cy="238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30680" y="3321000"/>
            <a:ext cx="331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38720" y="3314880"/>
            <a:ext cx="0" cy="28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586640" y="1486080"/>
            <a:ext cx="0" cy="471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55920" y="5219640"/>
            <a:ext cx="253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72040" y="5197320"/>
            <a:ext cx="39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6680" y="4267080"/>
            <a:ext cx="203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0000" y="42451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3314880"/>
            <a:ext cx="216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5680" y="3292560"/>
            <a:ext cx="35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7000" y="2362320"/>
            <a:ext cx="317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79160" y="2340000"/>
            <a:ext cx="44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90680" y="1397160"/>
            <a:ext cx="419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7800" y="1374840"/>
            <a:ext cx="52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10000" y="4863960"/>
            <a:ext cx="419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39080" y="480384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59240" y="4317840"/>
            <a:ext cx="546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87600" y="42577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 H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90120" y="4410000"/>
            <a:ext cx="695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67120" y="5194440"/>
            <a:ext cx="67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95840" y="5133960"/>
            <a:ext cx="84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D 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95840" y="5286240"/>
            <a:ext cx="77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19720" y="3930480"/>
            <a:ext cx="5587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8800" y="3949560"/>
            <a:ext cx="520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67160" y="3889440"/>
            <a:ext cx="684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69680" y="4041720"/>
            <a:ext cx="695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05240" y="4692600"/>
            <a:ext cx="7876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49880" y="4737240"/>
            <a:ext cx="7113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49880" y="4737240"/>
            <a:ext cx="711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78600" y="4676760"/>
            <a:ext cx="884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 Plas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78600" y="4829040"/>
            <a:ext cx="77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91120" y="3156120"/>
            <a:ext cx="118116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22800" y="3213000"/>
            <a:ext cx="11048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4040" y="3152880"/>
            <a:ext cx="127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hicle Sig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7720" y="1492200"/>
            <a:ext cx="476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75360" y="1104840"/>
            <a:ext cx="1981080" cy="1524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89840" y="1193760"/>
            <a:ext cx="16128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73800" y="1133640"/>
            <a:ext cx="1295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99360" y="1285920"/>
            <a:ext cx="1234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id Turbu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24560" y="1438200"/>
            <a:ext cx="118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Ge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75240" y="1590840"/>
            <a:ext cx="1292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9640" y="1743120"/>
            <a:ext cx="1793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Chrom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45560" y="1895400"/>
            <a:ext cx="1734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ductor 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32960" y="2048040"/>
            <a:ext cx="1775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conductor 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68960" y="2200320"/>
            <a:ext cx="1688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cous Fluid 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70480" y="2352600"/>
            <a:ext cx="1495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on and Cog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67440" y="4286160"/>
            <a:ext cx="11937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99120" y="4305240"/>
            <a:ext cx="1104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99120" y="4305240"/>
            <a:ext cx="11048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28920" y="4245120"/>
            <a:ext cx="1281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 of Hi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6400" y="4397400"/>
            <a:ext cx="931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on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94200" y="6219720"/>
            <a:ext cx="3438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14640" y="6194520"/>
            <a:ext cx="35892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raffic Requirements for Bandwid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49640" y="671400"/>
            <a:ext cx="351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16640" y="358920"/>
            <a:ext cx="2441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NREN Applic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8000" y="633240"/>
            <a:ext cx="381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Bandwidth and Traffic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0520" y="3139920"/>
            <a:ext cx="2444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30400" y="1219320"/>
            <a:ext cx="6235560" cy="4945320"/>
            <a:chOff x="1130400" y="1219320"/>
            <a:chExt cx="6235560" cy="4945320"/>
          </a:xfrm>
        </p:grpSpPr>
        <p:sp>
          <p:nvSpPr>
            <p:cNvPr id="205" name=""/>
            <p:cNvSpPr/>
            <p:nvPr/>
          </p:nvSpPr>
          <p:spPr>
            <a:xfrm>
              <a:off x="2349360" y="1219320"/>
              <a:ext cx="0" cy="449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47920" y="5730840"/>
              <a:ext cx="476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1887480" y="5475240"/>
              <a:ext cx="426240" cy="347760"/>
              <a:chOff x="1887480" y="5475240"/>
              <a:chExt cx="426240" cy="347760"/>
            </a:xfrm>
          </p:grpSpPr>
          <p:sp>
            <p:nvSpPr>
              <p:cNvPr id="208" name=""/>
              <p:cNvSpPr/>
              <p:nvPr/>
            </p:nvSpPr>
            <p:spPr>
              <a:xfrm>
                <a:off x="1959120" y="5597640"/>
                <a:ext cx="19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87480" y="555156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41640" y="5532480"/>
                <a:ext cx="16668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068200" y="547524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887480" y="5060880"/>
              <a:ext cx="438840" cy="347760"/>
              <a:chOff x="1887480" y="5060880"/>
              <a:chExt cx="438840" cy="347760"/>
            </a:xfrm>
          </p:grpSpPr>
          <p:sp>
            <p:nvSpPr>
              <p:cNvPr id="213" name=""/>
              <p:cNvSpPr/>
              <p:nvPr/>
            </p:nvSpPr>
            <p:spPr>
              <a:xfrm>
                <a:off x="1959120" y="5181480"/>
                <a:ext cx="1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87480" y="513720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154240" y="5116680"/>
                <a:ext cx="16668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080800" y="506088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887480" y="4656240"/>
              <a:ext cx="438840" cy="347400"/>
              <a:chOff x="1887480" y="4656240"/>
              <a:chExt cx="438840" cy="347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959120" y="4778280"/>
                <a:ext cx="19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87480" y="473220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54240" y="4713120"/>
                <a:ext cx="16668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080800" y="465624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887480" y="4241880"/>
              <a:ext cx="426240" cy="347400"/>
              <a:chOff x="1887480" y="4241880"/>
              <a:chExt cx="426240" cy="347400"/>
            </a:xfrm>
          </p:grpSpPr>
          <p:sp>
            <p:nvSpPr>
              <p:cNvPr id="223" name=""/>
              <p:cNvSpPr/>
              <p:nvPr/>
            </p:nvSpPr>
            <p:spPr>
              <a:xfrm>
                <a:off x="1959120" y="4362480"/>
                <a:ext cx="191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87480" y="431784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141640" y="4297320"/>
                <a:ext cx="166680" cy="1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68200" y="424188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887480" y="3836880"/>
              <a:ext cx="400680" cy="358920"/>
              <a:chOff x="1887480" y="3836880"/>
              <a:chExt cx="400680" cy="358920"/>
            </a:xfrm>
          </p:grpSpPr>
          <p:sp>
            <p:nvSpPr>
              <p:cNvPr id="228" name=""/>
              <p:cNvSpPr/>
              <p:nvPr/>
            </p:nvSpPr>
            <p:spPr>
              <a:xfrm>
                <a:off x="1959120" y="3970440"/>
                <a:ext cx="19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87480" y="392436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16080" y="3894120"/>
                <a:ext cx="16848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42640" y="383688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887480" y="3422520"/>
              <a:ext cx="426240" cy="347760"/>
              <a:chOff x="1887480" y="3422520"/>
              <a:chExt cx="426240" cy="347760"/>
            </a:xfrm>
          </p:grpSpPr>
          <p:sp>
            <p:nvSpPr>
              <p:cNvPr id="233" name=""/>
              <p:cNvSpPr/>
              <p:nvPr/>
            </p:nvSpPr>
            <p:spPr>
              <a:xfrm>
                <a:off x="1959120" y="3543480"/>
                <a:ext cx="191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87480" y="349884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41640" y="3478320"/>
                <a:ext cx="16668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68200" y="342252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1971720" y="3106800"/>
              <a:ext cx="191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97200" y="30621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54240" y="3041640"/>
              <a:ext cx="1666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80800" y="298620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84320" y="2692440"/>
              <a:ext cx="190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9800" y="26463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65400" y="2625840"/>
              <a:ext cx="16812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91960" y="257004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4320" y="2287440"/>
              <a:ext cx="190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09800" y="22431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5400" y="2222640"/>
              <a:ext cx="1681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1960" y="216684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4320" y="1893960"/>
              <a:ext cx="190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09800" y="184932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65400" y="1828800"/>
              <a:ext cx="1681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91960" y="177336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59120" y="1479600"/>
              <a:ext cx="191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87480" y="14349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41640" y="1414440"/>
              <a:ext cx="1666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67840" y="1359000"/>
              <a:ext cx="309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59080" y="5902200"/>
              <a:ext cx="628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7440" y="5832360"/>
              <a:ext cx="76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ea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2560" y="5870520"/>
              <a:ext cx="6271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58040" y="5799240"/>
              <a:ext cx="76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rs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60520" y="3262320"/>
              <a:ext cx="735120" cy="162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29000" y="2409840"/>
              <a:ext cx="772920" cy="834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25840" y="1917720"/>
              <a:ext cx="1465200" cy="662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54200" y="1273320"/>
              <a:ext cx="966960" cy="847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76800" y="1897200"/>
              <a:ext cx="1792080" cy="868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96000" y="3556080"/>
              <a:ext cx="1341360" cy="78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63880" y="4354560"/>
              <a:ext cx="1513080" cy="573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70680" y="4768920"/>
              <a:ext cx="1295280" cy="453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59480" y="2344680"/>
              <a:ext cx="846360" cy="1130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2040" y="1917720"/>
              <a:ext cx="1087560" cy="552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2200" y="1503360"/>
              <a:ext cx="1438560" cy="496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87760" y="1544760"/>
              <a:ext cx="7747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12880" y="1500120"/>
              <a:ext cx="874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os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12160" y="1663560"/>
              <a:ext cx="723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ag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32120" y="2135160"/>
              <a:ext cx="957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60840" y="2089080"/>
              <a:ext cx="890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58680" y="2254320"/>
              <a:ext cx="1037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su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02080" y="2681280"/>
              <a:ext cx="1101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29000" y="2635200"/>
              <a:ext cx="562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30080" y="2800440"/>
              <a:ext cx="73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leco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6600" y="3849840"/>
              <a:ext cx="642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94440" y="3805200"/>
              <a:ext cx="477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16760" y="3968640"/>
              <a:ext cx="426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35680" y="4132440"/>
              <a:ext cx="756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91080" y="2166840"/>
              <a:ext cx="101772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17640" y="2122560"/>
              <a:ext cx="1088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abo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17640" y="2286000"/>
              <a:ext cx="936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92720" y="1600200"/>
              <a:ext cx="83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19280" y="1554120"/>
              <a:ext cx="92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18200" y="1717560"/>
              <a:ext cx="91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u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23120" y="2058840"/>
              <a:ext cx="6397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48600" y="2013120"/>
              <a:ext cx="586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48960" y="2176560"/>
              <a:ext cx="756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19960" y="2604960"/>
              <a:ext cx="761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45800" y="2558880"/>
              <a:ext cx="59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45800" y="2722680"/>
              <a:ext cx="59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d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44720" y="2887560"/>
              <a:ext cx="781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45800" y="3051000"/>
              <a:ext cx="61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87880" y="3816360"/>
              <a:ext cx="9320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17680" y="3772080"/>
              <a:ext cx="1010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16960" y="3935520"/>
              <a:ext cx="486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44960" y="4570560"/>
              <a:ext cx="1127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74400" y="4525920"/>
              <a:ext cx="1191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ctronic M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29440" y="4832280"/>
              <a:ext cx="10396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02520" y="4788000"/>
              <a:ext cx="847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rac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55280" y="4951440"/>
              <a:ext cx="1106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 Trans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-720" y="3048480"/>
              <a:ext cx="267156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Bandwidth Peak Rat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19440" y="2209680"/>
            <a:ext cx="3681360" cy="3429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19440" y="1832040"/>
            <a:ext cx="0" cy="4051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286000" y="5638680"/>
            <a:ext cx="55389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76560" y="5675400"/>
            <a:ext cx="289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ing Capability (flo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1540000">
            <a:off x="1370520" y="3429000"/>
            <a:ext cx="1299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ndwid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400" y="51768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Two Dimensional Thinking of Early 1990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2743200"/>
            <a:ext cx="2286000" cy="220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1911240"/>
            <a:ext cx="3054240" cy="838440"/>
          </a:xfrm>
          <a:prstGeom prst="parallelogram">
            <a:avLst>
              <a:gd name="adj" fmla="val 91035"/>
            </a:avLst>
          </a:prstGeom>
          <a:gradFill rotWithShape="0">
            <a:gsLst>
              <a:gs pos="0">
                <a:srgbClr val="333399"/>
              </a:gs>
              <a:gs pos="100000">
                <a:srgbClr val="e9e9f3"/>
              </a:gs>
            </a:gsLst>
            <a:lin ang="5400000"/>
          </a:gra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rot="16200000">
            <a:off x="3733560" y="3060360"/>
            <a:ext cx="3041640" cy="743040"/>
          </a:xfrm>
          <a:prstGeom prst="parallelogram">
            <a:avLst>
              <a:gd name="adj" fmla="val 116570"/>
            </a:avLst>
          </a:prstGeom>
          <a:gradFill rotWithShape="0">
            <a:gsLst>
              <a:gs pos="0">
                <a:srgbClr val="000066"/>
              </a:gs>
              <a:gs pos="100000">
                <a:srgbClr val="e4e4ee"/>
              </a:gs>
            </a:gsLst>
            <a:lin ang="10800000"/>
          </a:gra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65360" y="1515960"/>
            <a:ext cx="0" cy="3770280"/>
          </a:xfrm>
          <a:prstGeom prst="line">
            <a:avLst/>
          </a:prstGeom>
          <a:ln w="50760">
            <a:solidFill>
              <a:srgbClr val="5f5f5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185560" y="4952880"/>
            <a:ext cx="402444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160360" y="4979880"/>
            <a:ext cx="430200" cy="32868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0" y="5029200"/>
            <a:ext cx="1879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ing (flo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68720" y="5334120"/>
            <a:ext cx="160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753480" y="3049560"/>
            <a:ext cx="2549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ndwidth, connectiv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0120" y="366840"/>
            <a:ext cx="66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Three Dimensional Thinking of mid-90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807080" y="2964960"/>
            <a:ext cx="135864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79640" y="2792520"/>
            <a:ext cx="3676680" cy="2034720"/>
            <a:chOff x="1079640" y="2792520"/>
            <a:chExt cx="3676680" cy="2034720"/>
          </a:xfrm>
        </p:grpSpPr>
        <p:sp>
          <p:nvSpPr>
            <p:cNvPr id="330" name=""/>
            <p:cNvSpPr/>
            <p:nvPr/>
          </p:nvSpPr>
          <p:spPr>
            <a:xfrm>
              <a:off x="1079640" y="2792520"/>
              <a:ext cx="3596760" cy="20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3"/>
                  </a:moveTo>
                  <a:arcTo wR="10800" hR="10800" stAng="-5368" swAng="540536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3"/>
                  </a:moveTo>
                  <a:arcTo wR="10800" hR="10800" stAng="-5368" swAng="54053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479600" y="2803680"/>
              <a:ext cx="3276720" cy="2022120"/>
              <a:chOff x="1479600" y="2803680"/>
              <a:chExt cx="3276720" cy="2022120"/>
            </a:xfrm>
          </p:grpSpPr>
          <p:sp>
            <p:nvSpPr>
              <p:cNvPr id="332" name=""/>
              <p:cNvSpPr/>
              <p:nvPr/>
            </p:nvSpPr>
            <p:spPr>
              <a:xfrm>
                <a:off x="1479600" y="2803680"/>
                <a:ext cx="2800080" cy="202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3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389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219560" y="3498840"/>
                <a:ext cx="536760" cy="318960"/>
              </a:xfrm>
              <a:custGeom>
                <a:avLst/>
                <a:gdLst/>
                <a:ahLst/>
                <a:rect l="l" t="t" r="r" b="b"/>
                <a:pathLst>
                  <a:path w="338" h="201">
                    <a:moveTo>
                      <a:pt x="42" y="200"/>
                    </a:moveTo>
                    <a:lnTo>
                      <a:pt x="0" y="200"/>
                    </a:lnTo>
                    <a:lnTo>
                      <a:pt x="211" y="0"/>
                    </a:lnTo>
                    <a:lnTo>
                      <a:pt x="337" y="200"/>
                    </a:lnTo>
                    <a:lnTo>
                      <a:pt x="295" y="20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6157800" y="2424240"/>
            <a:ext cx="2833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Librarie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jectory: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lle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cess to globally distribute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616120" y="3375000"/>
            <a:ext cx="1524240" cy="1603440"/>
          </a:xfrm>
          <a:prstGeom prst="line">
            <a:avLst/>
          </a:prstGeom>
          <a:ln w="50760">
            <a:solidFill>
              <a:srgbClr val="7777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3880" y="5715000"/>
            <a:ext cx="1219320" cy="152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e9e9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3880" y="5861160"/>
            <a:ext cx="37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98760" y="5859360"/>
            <a:ext cx="320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23880" y="5861160"/>
            <a:ext cx="44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65480" y="2711520"/>
            <a:ext cx="3110760" cy="210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352520" y="2838600"/>
            <a:ext cx="4419720" cy="33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52520" y="28386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552760" y="2971800"/>
            <a:ext cx="2971800" cy="3047760"/>
            <a:chOff x="2552760" y="2971800"/>
            <a:chExt cx="2971800" cy="3047760"/>
          </a:xfrm>
        </p:grpSpPr>
        <p:grpSp>
          <p:nvGrpSpPr>
            <p:cNvPr id="344" name=""/>
            <p:cNvGrpSpPr/>
            <p:nvPr/>
          </p:nvGrpSpPr>
          <p:grpSpPr>
            <a:xfrm>
              <a:off x="2552760" y="2971800"/>
              <a:ext cx="2971800" cy="3047760"/>
              <a:chOff x="2552760" y="2971800"/>
              <a:chExt cx="2971800" cy="3047760"/>
            </a:xfrm>
          </p:grpSpPr>
          <p:sp>
            <p:nvSpPr>
              <p:cNvPr id="345" name=""/>
              <p:cNvSpPr/>
              <p:nvPr/>
            </p:nvSpPr>
            <p:spPr>
              <a:xfrm>
                <a:off x="2552760" y="3809880"/>
                <a:ext cx="2286000" cy="22096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52760" y="2971800"/>
                <a:ext cx="2971800" cy="838080"/>
              </a:xfrm>
              <a:prstGeom prst="parallelogram">
                <a:avLst>
                  <a:gd name="adj" fmla="val 88649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ccecff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rot="16200000">
                <a:off x="3618360" y="4114440"/>
                <a:ext cx="3047760" cy="762120"/>
              </a:xfrm>
              <a:prstGeom prst="parallelogram">
                <a:avLst>
                  <a:gd name="adj" fmla="val 107252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ccecff"/>
                  </a:gs>
                </a:gsLst>
                <a:lin ang="108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flipV="1">
              <a:off x="2579400" y="4391640"/>
              <a:ext cx="1572480" cy="1579320"/>
            </a:xfrm>
            <a:prstGeom prst="line">
              <a:avLst/>
            </a:prstGeom>
            <a:ln w="50760">
              <a:solidFill>
                <a:srgbClr val="777777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00120" y="366840"/>
            <a:ext cx="66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Today:  Emphasis on Context and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 rot="21367200">
            <a:off x="3239640" y="1827000"/>
            <a:ext cx="200340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metada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566720" y="3394080"/>
            <a:ext cx="5086440" cy="14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 Black"/>
              </a:rPr>
              <a:t>Intelligent Distribut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 Black"/>
              </a:rPr>
              <a:t>Knowledge Environments an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 Black"/>
              </a:rPr>
              <a:t>Information Spac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600120" y="366840"/>
            <a:ext cx="66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Next:  Advanced Functional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52520" y="2838600"/>
            <a:ext cx="4419720" cy="3390840"/>
          </a:xfrm>
          <a:prstGeom prst="rect">
            <a:avLst/>
          </a:prstGeom>
          <a:noFill/>
          <a:ln w="9360">
            <a:solidFill>
              <a:srgbClr val="1b1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7320" y="323640"/>
            <a:ext cx="7372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Evolution of Understanding in a </a:t>
            </a:r>
            <a:br>
              <a:rPr sz="2400"/>
            </a:b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Distributed Knowledge Environment</a:t>
            </a: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009080" y="5773680"/>
            <a:ext cx="2094120" cy="459720"/>
            <a:chOff x="1009080" y="5773680"/>
            <a:chExt cx="2094120" cy="459720"/>
          </a:xfrm>
        </p:grpSpPr>
        <p:sp>
          <p:nvSpPr>
            <p:cNvPr id="356" name=""/>
            <p:cNvSpPr/>
            <p:nvPr/>
          </p:nvSpPr>
          <p:spPr>
            <a:xfrm>
              <a:off x="1009080" y="5773680"/>
              <a:ext cx="82368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68920" y="5773680"/>
              <a:ext cx="1034280" cy="4590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100100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11111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959120" y="4267080"/>
            <a:ext cx="3625560" cy="482400"/>
            <a:chOff x="1959120" y="4267080"/>
            <a:chExt cx="3625560" cy="482400"/>
          </a:xfrm>
        </p:grpSpPr>
        <p:sp>
          <p:nvSpPr>
            <p:cNvPr id="359" name=""/>
            <p:cNvSpPr/>
            <p:nvPr/>
          </p:nvSpPr>
          <p:spPr>
            <a:xfrm>
              <a:off x="1959120" y="4267080"/>
              <a:ext cx="170640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3849480" y="4267080"/>
              <a:ext cx="1735200" cy="482400"/>
              <a:chOff x="3849480" y="4267080"/>
              <a:chExt cx="1735200" cy="482400"/>
            </a:xfrm>
          </p:grpSpPr>
          <p:sp>
            <p:nvSpPr>
              <p:cNvPr id="361" name=""/>
              <p:cNvSpPr/>
              <p:nvPr/>
            </p:nvSpPr>
            <p:spPr>
              <a:xfrm>
                <a:off x="3849480" y="4267080"/>
                <a:ext cx="1735200" cy="48240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56120" y="4622400"/>
                <a:ext cx="137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4068720" y="430488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30720" y="4346280"/>
                <a:ext cx="1066680" cy="194760"/>
              </a:xfrm>
              <a:custGeom>
                <a:avLst/>
                <a:gdLst/>
                <a:ahLst/>
                <a:rect l="l" t="t" r="r" b="b"/>
                <a:pathLst>
                  <a:path w="672" h="123">
                    <a:moveTo>
                      <a:pt x="0" y="94"/>
                    </a:moveTo>
                    <a:cubicBezTo>
                      <a:pt x="120" y="51"/>
                      <a:pt x="240" y="8"/>
                      <a:pt x="336" y="4"/>
                    </a:cubicBezTo>
                    <a:cubicBezTo>
                      <a:pt x="432" y="0"/>
                      <a:pt x="520" y="48"/>
                      <a:pt x="576" y="68"/>
                    </a:cubicBezTo>
                    <a:cubicBezTo>
                      <a:pt x="632" y="88"/>
                      <a:pt x="656" y="111"/>
                      <a:pt x="672" y="123"/>
                    </a:cubicBezTo>
                  </a:path>
                </a:pathLst>
              </a:custGeom>
              <a:solidFill>
                <a:srgbClr val="ff99cc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3200760" y="2808360"/>
            <a:ext cx="1684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930480" y="1438200"/>
            <a:ext cx="3778200" cy="1851480"/>
            <a:chOff x="3930480" y="1438200"/>
            <a:chExt cx="3778200" cy="1851480"/>
          </a:xfrm>
        </p:grpSpPr>
        <p:sp>
          <p:nvSpPr>
            <p:cNvPr id="367" name=""/>
            <p:cNvSpPr/>
            <p:nvPr/>
          </p:nvSpPr>
          <p:spPr>
            <a:xfrm>
              <a:off x="5109840" y="2830680"/>
              <a:ext cx="887760" cy="4590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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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30480" y="1463760"/>
              <a:ext cx="216036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dersta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62640" y="1438200"/>
              <a:ext cx="1346040" cy="5191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The universe is expanding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V="1">
            <a:off x="1754280" y="4762440"/>
            <a:ext cx="563400" cy="95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956320" y="3348000"/>
            <a:ext cx="559440" cy="84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013280" y="1999800"/>
            <a:ext cx="50148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8166200">
            <a:off x="2540520" y="372492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8060000">
            <a:off x="3634920" y="22039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7966400">
            <a:off x="1323000" y="51523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8064800">
            <a:off x="4218120" y="217836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12384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561440" y="228600"/>
            <a:ext cx="1265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4200" y="130500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1640" y="40482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da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5360" y="1847880"/>
            <a:ext cx="416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84:  Leibnitz publishes paper on calc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93:  Newton publishes paper on calc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p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ton receives credit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0400" y="4686480"/>
            <a:ext cx="606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31, 1999  15:24 GMT:  Leibnitz’ paper on pre-prin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31, 1999  15:33 GMT:  Newton’s paper on pre-prin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own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ibnitz receives credit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3560" y="45720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ibnitz and Newton:  then and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228600" y="1371600"/>
            <a:ext cx="2101680" cy="1114560"/>
            <a:chOff x="228600" y="1371600"/>
            <a:chExt cx="2101680" cy="1114560"/>
          </a:xfrm>
        </p:grpSpPr>
        <p:sp>
          <p:nvSpPr>
            <p:cNvPr id="385" name=""/>
            <p:cNvSpPr/>
            <p:nvPr/>
          </p:nvSpPr>
          <p:spPr>
            <a:xfrm>
              <a:off x="228600" y="1371600"/>
              <a:ext cx="210168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88800" y="1386720"/>
              <a:ext cx="1780920" cy="1083960"/>
              <a:chOff x="388800" y="1386720"/>
              <a:chExt cx="1780920" cy="1083960"/>
            </a:xfrm>
          </p:grpSpPr>
          <p:pic>
            <p:nvPicPr>
              <p:cNvPr id="3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6600" y="1386720"/>
                <a:ext cx="1743120" cy="10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294560" y="2299320"/>
                <a:ext cx="8640" cy="36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959760" y="1767960"/>
                <a:ext cx="43560" cy="94320"/>
              </a:xfrm>
              <a:custGeom>
                <a:avLst/>
                <a:gdLst/>
                <a:ahLst/>
                <a:rect l="l" t="t" r="r" b="b"/>
                <a:pathLst>
                  <a:path w="133" h="283">
                    <a:moveTo>
                      <a:pt x="133" y="0"/>
                    </a:moveTo>
                    <a:lnTo>
                      <a:pt x="0" y="28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75240" y="1721160"/>
                <a:ext cx="59040" cy="38880"/>
              </a:xfrm>
              <a:custGeom>
                <a:avLst/>
                <a:gdLst/>
                <a:ahLst/>
                <a:rect l="l" t="t" r="r" b="b"/>
                <a:pathLst>
                  <a:path w="176" h="115">
                    <a:moveTo>
                      <a:pt x="176" y="2"/>
                    </a:moveTo>
                    <a:lnTo>
                      <a:pt x="93" y="11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91440" y="1753560"/>
                <a:ext cx="2376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20640" y="1738440"/>
                <a:ext cx="196560" cy="30240"/>
              </a:xfrm>
              <a:custGeom>
                <a:avLst/>
                <a:gdLst/>
                <a:ahLst/>
                <a:rect l="l" t="t" r="r" b="b"/>
                <a:pathLst>
                  <a:path w="675" h="19">
                    <a:moveTo>
                      <a:pt x="675" y="19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1517040" y="1737360"/>
                <a:ext cx="1440" cy="12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11440" y="1744920"/>
                <a:ext cx="132480" cy="29160"/>
              </a:xfrm>
              <a:custGeom>
                <a:avLst/>
                <a:gdLst/>
                <a:ahLst/>
                <a:rect l="l" t="t" r="r" b="b"/>
                <a:pathLst>
                  <a:path w="394" h="88">
                    <a:moveTo>
                      <a:pt x="0" y="88"/>
                    </a:moveTo>
                    <a:lnTo>
                      <a:pt x="39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1958040" y="1765080"/>
                <a:ext cx="522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50840" y="1762200"/>
                <a:ext cx="100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04040" y="1798560"/>
                <a:ext cx="720" cy="46440"/>
              </a:xfrm>
              <a:custGeom>
                <a:avLst/>
                <a:gdLst/>
                <a:ahLst/>
                <a:rect l="l" t="t" r="r" b="b"/>
                <a:pathLst>
                  <a:path w="4" h="140">
                    <a:moveTo>
                      <a:pt x="0" y="0"/>
                    </a:moveTo>
                    <a:lnTo>
                      <a:pt x="4" y="14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39160" y="1737360"/>
                <a:ext cx="191520" cy="24840"/>
              </a:xfrm>
              <a:custGeom>
                <a:avLst/>
                <a:gdLst/>
                <a:ahLst/>
                <a:rect l="l" t="t" r="r" b="b"/>
                <a:pathLst>
                  <a:path w="572" h="74">
                    <a:moveTo>
                      <a:pt x="0" y="0"/>
                    </a:moveTo>
                    <a:lnTo>
                      <a:pt x="572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1303560" y="1739160"/>
                <a:ext cx="213480" cy="56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959400" y="1739160"/>
                <a:ext cx="557640" cy="122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53600" y="1859400"/>
                <a:ext cx="507240" cy="32400"/>
              </a:xfrm>
              <a:custGeom>
                <a:avLst/>
                <a:gdLst/>
                <a:ahLst/>
                <a:rect l="l" t="t" r="r" b="b"/>
                <a:pathLst>
                  <a:path w="1510" h="97">
                    <a:moveTo>
                      <a:pt x="1510" y="0"/>
                    </a:moveTo>
                    <a:lnTo>
                      <a:pt x="0" y="9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50360" y="1894680"/>
                <a:ext cx="113400" cy="180000"/>
              </a:xfrm>
              <a:custGeom>
                <a:avLst/>
                <a:gdLst/>
                <a:ahLst/>
                <a:rect l="l" t="t" r="r" b="b"/>
                <a:pathLst>
                  <a:path w="335" h="536">
                    <a:moveTo>
                      <a:pt x="0" y="0"/>
                    </a:moveTo>
                    <a:lnTo>
                      <a:pt x="335" y="5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64120" y="2073960"/>
                <a:ext cx="739800" cy="23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5720" y="1893960"/>
                <a:ext cx="48600" cy="52920"/>
              </a:xfrm>
              <a:custGeom>
                <a:avLst/>
                <a:gdLst/>
                <a:ahLst/>
                <a:rect l="l" t="t" r="r" b="b"/>
                <a:pathLst>
                  <a:path w="145" h="160">
                    <a:moveTo>
                      <a:pt x="145" y="0"/>
                    </a:moveTo>
                    <a:lnTo>
                      <a:pt x="0" y="16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1454400" y="1734120"/>
                <a:ext cx="608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413000" y="1655280"/>
                <a:ext cx="109440" cy="81720"/>
              </a:xfrm>
              <a:custGeom>
                <a:avLst/>
                <a:gdLst/>
                <a:ahLst/>
                <a:rect l="l" t="t" r="r" b="b"/>
                <a:pathLst>
                  <a:path w="326" h="244">
                    <a:moveTo>
                      <a:pt x="0" y="0"/>
                    </a:moveTo>
                    <a:lnTo>
                      <a:pt x="326" y="2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34560" y="1715400"/>
                <a:ext cx="42480" cy="56880"/>
              </a:xfrm>
              <a:custGeom>
                <a:avLst/>
                <a:gdLst/>
                <a:ahLst/>
                <a:rect l="l" t="t" r="r" b="b"/>
                <a:pathLst>
                  <a:path w="128" h="170">
                    <a:moveTo>
                      <a:pt x="128" y="0"/>
                    </a:moveTo>
                    <a:lnTo>
                      <a:pt x="0" y="104"/>
                    </a:lnTo>
                    <a:lnTo>
                      <a:pt x="127" y="17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824840" y="1733760"/>
                <a:ext cx="2376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67000" y="2073960"/>
                <a:ext cx="36000" cy="63720"/>
              </a:xfrm>
              <a:custGeom>
                <a:avLst/>
                <a:gdLst/>
                <a:ahLst/>
                <a:rect l="l" t="t" r="r" b="b"/>
                <a:pathLst>
                  <a:path w="107" h="189">
                    <a:moveTo>
                      <a:pt x="0" y="0"/>
                    </a:moveTo>
                    <a:lnTo>
                      <a:pt x="107" y="18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567000" y="2057040"/>
                <a:ext cx="56160" cy="1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1244880" y="2307600"/>
                <a:ext cx="5904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1405440" y="1641240"/>
                <a:ext cx="24480" cy="24840"/>
              </a:xfrm>
              <a:prstGeom prst="triangle">
                <a:avLst>
                  <a:gd name="adj" fmla="val 49986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0c0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1991880" y="1750680"/>
                <a:ext cx="25560" cy="25560"/>
              </a:xfrm>
              <a:prstGeom prst="triangle">
                <a:avLst>
                  <a:gd name="adj" fmla="val 49986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0c0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17000" y="17060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59040" y="1861560"/>
                <a:ext cx="608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310040" y="2126160"/>
                <a:ext cx="384840" cy="18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1680" y="2297160"/>
                <a:ext cx="2376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96320" y="2128320"/>
                <a:ext cx="60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77960" y="1732680"/>
                <a:ext cx="38880" cy="3600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116" y="108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698840" y="1797480"/>
                <a:ext cx="204840" cy="330840"/>
              </a:xfrm>
              <a:custGeom>
                <a:avLst/>
                <a:gdLst/>
                <a:ahLst/>
                <a:rect l="l" t="t" r="r" b="b"/>
                <a:pathLst>
                  <a:path w="608" h="984">
                    <a:moveTo>
                      <a:pt x="0" y="984"/>
                    </a:moveTo>
                    <a:lnTo>
                      <a:pt x="60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63000" y="1708920"/>
                <a:ext cx="3132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02240" y="1702080"/>
                <a:ext cx="56160" cy="95040"/>
              </a:xfrm>
              <a:custGeom>
                <a:avLst/>
                <a:gdLst/>
                <a:ahLst/>
                <a:rect l="l" t="t" r="r" b="b"/>
                <a:pathLst>
                  <a:path w="166" h="282">
                    <a:moveTo>
                      <a:pt x="166" y="0"/>
                    </a:moveTo>
                    <a:lnTo>
                      <a:pt x="0" y="28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57320" y="1706040"/>
                <a:ext cx="45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15400" y="1687680"/>
                <a:ext cx="241920" cy="84600"/>
              </a:xfrm>
              <a:custGeom>
                <a:avLst/>
                <a:gdLst/>
                <a:ahLst/>
                <a:rect l="l" t="t" r="r" b="b"/>
                <a:pathLst>
                  <a:path w="722" h="252">
                    <a:moveTo>
                      <a:pt x="0" y="252"/>
                    </a:moveTo>
                    <a:cubicBezTo>
                      <a:pt x="342" y="0"/>
                      <a:pt x="360" y="2"/>
                      <a:pt x="722" y="4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912680" y="1779120"/>
                <a:ext cx="45360" cy="1011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1923480" y="1782360"/>
                <a:ext cx="37080" cy="7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1921680" y="1782720"/>
                <a:ext cx="12564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1859760" y="1860480"/>
                <a:ext cx="37800" cy="5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956240" y="1644840"/>
                <a:ext cx="54360" cy="58680"/>
              </a:xfrm>
              <a:custGeom>
                <a:avLst/>
                <a:gdLst/>
                <a:ahLst/>
                <a:rect l="l" t="t" r="r" b="b"/>
                <a:pathLst>
                  <a:path w="161" h="174">
                    <a:moveTo>
                      <a:pt x="161" y="0"/>
                    </a:moveTo>
                    <a:lnTo>
                      <a:pt x="0" y="17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44000" y="1691640"/>
                <a:ext cx="2268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712520" y="1632600"/>
                <a:ext cx="298440" cy="133560"/>
              </a:xfrm>
              <a:custGeom>
                <a:avLst/>
                <a:gdLst/>
                <a:ahLst/>
                <a:rect l="l" t="t" r="r" b="b"/>
                <a:pathLst>
                  <a:path w="871" h="397">
                    <a:moveTo>
                      <a:pt x="0" y="397"/>
                    </a:moveTo>
                    <a:cubicBezTo>
                      <a:pt x="118" y="259"/>
                      <a:pt x="236" y="122"/>
                      <a:pt x="381" y="61"/>
                    </a:cubicBezTo>
                    <a:cubicBezTo>
                      <a:pt x="526" y="0"/>
                      <a:pt x="787" y="34"/>
                      <a:pt x="871" y="2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02800" y="1757520"/>
                <a:ext cx="2376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13840" y="1643760"/>
                <a:ext cx="4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00160" y="1632600"/>
                <a:ext cx="2376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1832040" y="1799280"/>
                <a:ext cx="72360" cy="2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1692360" y="1826640"/>
                <a:ext cx="140040" cy="29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892520" y="1787040"/>
                <a:ext cx="2268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82640" y="2113920"/>
                <a:ext cx="2376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1843560" y="1837440"/>
                <a:ext cx="11700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83080" y="1818360"/>
                <a:ext cx="49320" cy="5760"/>
              </a:xfrm>
              <a:custGeom>
                <a:avLst/>
                <a:gdLst/>
                <a:ahLst/>
                <a:rect l="l" t="t" r="r" b="b"/>
                <a:pathLst>
                  <a:path w="147" h="18">
                    <a:moveTo>
                      <a:pt x="147" y="18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20880" y="1812960"/>
                <a:ext cx="2376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5800" y="1481760"/>
                <a:ext cx="453600" cy="38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07520" y="1479960"/>
                <a:ext cx="100080" cy="413640"/>
              </a:xfrm>
              <a:custGeom>
                <a:avLst/>
                <a:gdLst/>
                <a:ahLst/>
                <a:rect l="l" t="t" r="r" b="b"/>
                <a:pathLst>
                  <a:path w="299" h="1229">
                    <a:moveTo>
                      <a:pt x="299" y="0"/>
                    </a:moveTo>
                    <a:cubicBezTo>
                      <a:pt x="252" y="129"/>
                      <a:pt x="52" y="566"/>
                      <a:pt x="26" y="771"/>
                    </a:cubicBezTo>
                    <a:cubicBezTo>
                      <a:pt x="0" y="976"/>
                      <a:pt x="68" y="1095"/>
                      <a:pt x="142" y="122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46440" y="1848960"/>
                <a:ext cx="2376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11200" y="1480680"/>
                <a:ext cx="50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96440" y="1472040"/>
                <a:ext cx="2376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39280" y="2128320"/>
                <a:ext cx="62640" cy="11160"/>
              </a:xfrm>
              <a:custGeom>
                <a:avLst/>
                <a:gdLst/>
                <a:ahLst/>
                <a:rect l="l" t="t" r="r" b="b"/>
                <a:pathLst>
                  <a:path w="185" h="33">
                    <a:moveTo>
                      <a:pt x="185" y="33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24160" y="211500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39280" y="2141640"/>
                <a:ext cx="64440" cy="34920"/>
              </a:xfrm>
              <a:custGeom>
                <a:avLst/>
                <a:gdLst/>
                <a:ahLst/>
                <a:rect l="l" t="t" r="r" b="b"/>
                <a:pathLst>
                  <a:path w="191" h="105">
                    <a:moveTo>
                      <a:pt x="191" y="0"/>
                    </a:moveTo>
                    <a:lnTo>
                      <a:pt x="0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0760" y="2126520"/>
                <a:ext cx="2376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1506240" y="1834560"/>
                <a:ext cx="540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06240" y="1865160"/>
                <a:ext cx="5616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02280" y="1852920"/>
                <a:ext cx="2376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43680" y="182052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1452960" y="1711080"/>
                <a:ext cx="6552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06240" y="1726920"/>
                <a:ext cx="2376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8160" y="1893960"/>
                <a:ext cx="56160" cy="12240"/>
              </a:xfrm>
              <a:custGeom>
                <a:avLst/>
                <a:gdLst/>
                <a:ahLst/>
                <a:rect l="l" t="t" r="r" b="b"/>
                <a:pathLst>
                  <a:path w="168" h="37">
                    <a:moveTo>
                      <a:pt x="168" y="0"/>
                    </a:moveTo>
                    <a:lnTo>
                      <a:pt x="0" y="3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2800" y="1882440"/>
                <a:ext cx="23760" cy="208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05080" y="2045520"/>
                <a:ext cx="56880" cy="29160"/>
              </a:xfrm>
              <a:custGeom>
                <a:avLst/>
                <a:gdLst/>
                <a:ahLst/>
                <a:rect l="l" t="t" r="r" b="b"/>
                <a:pathLst>
                  <a:path w="168" h="90">
                    <a:moveTo>
                      <a:pt x="168" y="9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8600" rIns="228600" tIns="-62280" bIns="-62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2600" y="2062440"/>
                <a:ext cx="2268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9840" y="20444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27600" y="2316240"/>
                <a:ext cx="31320" cy="31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59760" y="1706040"/>
                <a:ext cx="32400" cy="31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001880" y="18680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728360" y="211212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59960" y="171540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863000" y="1746720"/>
                <a:ext cx="3132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988640" y="16898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945080" y="1752840"/>
                <a:ext cx="3204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890720" y="184032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44640" y="191376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045160" y="1628640"/>
                <a:ext cx="32040" cy="31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764720" y="1803960"/>
                <a:ext cx="31320" cy="31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52600" y="1465560"/>
                <a:ext cx="32400" cy="28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4160" y="21578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43680" y="18680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35680" y="17096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5000" y="1939680"/>
                <a:ext cx="83880" cy="10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88800" y="1931040"/>
                <a:ext cx="32400" cy="28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60066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080" y="2031120"/>
                <a:ext cx="32400" cy="28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60066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Changing Scales and Contexts of Interaction and Collaboration</a:t>
            </a: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44680" y="2496960"/>
            <a:ext cx="5773680" cy="39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3581280" y="3886200"/>
          <a:ext cx="4572000" cy="25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3886200"/>
                    <a:ext cx="4572000" cy="2556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2324160" y="1371600"/>
            <a:ext cx="5829120" cy="24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" y="2438280"/>
            <a:ext cx="3352680" cy="39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0680" y="1363680"/>
            <a:ext cx="3344760" cy="25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03200" y="4857840"/>
            <a:ext cx="291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SFNet StarTap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A Vision of Disciplinarity: </a:t>
            </a: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140e8e"/>
                </a:solidFill>
                <a:latin typeface="Times New Roman"/>
              </a:rPr>
              <a:t>The World in 2010</a:t>
            </a: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33720" y="3276720"/>
            <a:ext cx="1981080" cy="19810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897200" y="1963800"/>
            <a:ext cx="1981080" cy="1981080"/>
            <a:chOff x="1897200" y="1963800"/>
            <a:chExt cx="1981080" cy="1981080"/>
          </a:xfrm>
        </p:grpSpPr>
        <p:sp>
          <p:nvSpPr>
            <p:cNvPr id="492" name=""/>
            <p:cNvSpPr/>
            <p:nvPr/>
          </p:nvSpPr>
          <p:spPr>
            <a:xfrm>
              <a:off x="1897200" y="1963800"/>
              <a:ext cx="1981080" cy="19810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04000" y="2210040"/>
              <a:ext cx="107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905120" y="5715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133720"/>
            <a:ext cx="2590560" cy="25905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2590920"/>
            <a:ext cx="2590560" cy="2590560"/>
          </a:xfrm>
          <a:prstGeom prst="ellipse">
            <a:avLst/>
          </a:prstGeom>
          <a:solidFill>
            <a:srgbClr val="cc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2590920"/>
            <a:ext cx="2590560" cy="259056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91320" y="2209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0" y="4952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91520" y="47242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5880" y="5715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81080" y="373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3200400"/>
            <a:ext cx="1981440" cy="198108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43040" y="2235240"/>
            <a:ext cx="1422360" cy="1422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160" y="2490840"/>
            <a:ext cx="1671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Scienc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53000" y="2776680"/>
            <a:ext cx="2166840" cy="21668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22560" y="3506760"/>
            <a:ext cx="1671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Scienc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25640" y="1851120"/>
            <a:ext cx="6645240" cy="41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 university-led projects; similar project model for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4M total over four years, ending fall 1998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~$1M/year per proj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project required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ry out funda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large test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with 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quire substantial cost sharing (1:1 is n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onstrate leadership for larger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perative agreements, not g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-Project meetings every six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-Lib Magazine (DARPA sponsored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2920" y="250920"/>
            <a:ext cx="60764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Libraries Initiative (DLI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Profile (Phase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86640" y="266760"/>
            <a:ext cx="126540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914400" y="2286000"/>
          <a:ext cx="732780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732780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723960" y="247680"/>
            <a:ext cx="57229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361b"/>
                </a:solidFill>
                <a:latin typeface="Palatino"/>
                <a:ea typeface="Times New Roman"/>
              </a:rPr>
              <a:t>International Digital Libraries Collaborative Research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53960" y="5664240"/>
            <a:ext cx="53848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Y 1999 Competi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0 proposals requesting $25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0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 Program with UK/JISC: 6 awards, $5M over 3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914400" y="1905120"/>
          <a:ext cx="7327800" cy="32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27800" cy="32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2209680" y="5410080"/>
            <a:ext cx="48769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Y 1999 Competi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0 proposals requesting $25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0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 Program with UK/JISC (Circular 15/9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12880" y="152280"/>
            <a:ext cx="57229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International Digital Libraries Collaborative Research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14600" y="259092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95680" y="228600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00600" y="236232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77120" y="2895480"/>
            <a:ext cx="30456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781680" y="274320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2971800"/>
            <a:ext cx="304920" cy="289080"/>
          </a:xfrm>
          <a:prstGeom prst="star5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3581280"/>
            <a:ext cx="304560" cy="289080"/>
          </a:xfrm>
          <a:prstGeom prst="star5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76920" y="2133720"/>
            <a:ext cx="30456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05520" y="2286000"/>
            <a:ext cx="30456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553080" y="259092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162920" y="3809880"/>
            <a:ext cx="30456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696080" y="411480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81560" y="311148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44920" y="200664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4164120" y="1547640"/>
            <a:ext cx="4329000" cy="44071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5245920" y="6294600"/>
            <a:ext cx="24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uromktg.com/globstat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18800" y="26676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guages and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760" y="2354400"/>
            <a:ext cx="380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ril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glish            107.2M       56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English     82.7M        43.5% European         54.9M        30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66760" y="450684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y end of year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glish            1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English     167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033560" y="4573440"/>
            <a:ext cx="6402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Times New Roman"/>
              </a:rPr>
              <a:t>Stanford InfoBus</a:t>
            </a:r>
            <a:r>
              <a:rPr b="0" lang="en-US" sz="2100" spc="-1" strike="noStrike">
                <a:solidFill>
                  <a:srgbClr val="339933"/>
                </a:solidFill>
                <a:latin typeface="Times New Roman"/>
              </a:rPr>
              <a:t>: CORBA distributed object technolog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2611440" y="2116080"/>
            <a:ext cx="2859120" cy="2614320"/>
            <a:chOff x="2611440" y="2116080"/>
            <a:chExt cx="2859120" cy="2614320"/>
          </a:xfrm>
        </p:grpSpPr>
        <p:sp>
          <p:nvSpPr>
            <p:cNvPr id="539" name=""/>
            <p:cNvSpPr/>
            <p:nvPr/>
          </p:nvSpPr>
          <p:spPr>
            <a:xfrm>
              <a:off x="2738520" y="4501800"/>
              <a:ext cx="95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60720" y="4501800"/>
              <a:ext cx="145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76880" y="3070080"/>
              <a:ext cx="193680" cy="993600"/>
            </a:xfrm>
            <a:prstGeom prst="ellipse">
              <a:avLst/>
            </a:prstGeom>
            <a:gradFill rotWithShape="0">
              <a:gsLst>
                <a:gs pos="0">
                  <a:srgbClr val="90ace3"/>
                </a:gs>
                <a:gs pos="50000">
                  <a:srgbClr val="a2c1fe"/>
                </a:gs>
                <a:gs pos="100000">
                  <a:srgbClr val="90ac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84520" y="3070080"/>
              <a:ext cx="2671560" cy="993600"/>
            </a:xfrm>
            <a:prstGeom prst="rect">
              <a:avLst/>
            </a:prstGeom>
            <a:gradFill rotWithShape="0">
              <a:gsLst>
                <a:gs pos="0">
                  <a:srgbClr val="90ace3"/>
                </a:gs>
                <a:gs pos="50000">
                  <a:srgbClr val="a2c1fe"/>
                </a:gs>
                <a:gs pos="100000">
                  <a:srgbClr val="90ac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611440" y="3076200"/>
              <a:ext cx="142920" cy="981360"/>
            </a:xfrm>
            <a:prstGeom prst="ellipse">
              <a:avLst/>
            </a:prstGeom>
            <a:gradFill rotWithShape="0">
              <a:gsLst>
                <a:gs pos="0">
                  <a:srgbClr val="567fe2"/>
                </a:gs>
                <a:gs pos="50000">
                  <a:srgbClr val="618ffd"/>
                </a:gs>
                <a:gs pos="100000">
                  <a:srgbClr val="567fe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3152880" y="2141280"/>
              <a:ext cx="295200" cy="282600"/>
              <a:chOff x="3152880" y="2141280"/>
              <a:chExt cx="295200" cy="28260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3152880" y="2178000"/>
                <a:ext cx="195120" cy="245880"/>
                <a:chOff x="3152880" y="2178000"/>
                <a:chExt cx="195120" cy="24588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3152880" y="2178000"/>
                  <a:ext cx="195120" cy="245880"/>
                  <a:chOff x="3152880" y="2178000"/>
                  <a:chExt cx="195120" cy="24588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>
                    <a:off x="3181320" y="2178000"/>
                    <a:ext cx="61920" cy="48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3262320" y="2178000"/>
                    <a:ext cx="65160" cy="48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152880" y="2230200"/>
                    <a:ext cx="19512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22">
                        <a:moveTo>
                          <a:pt x="19" y="8"/>
                        </a:moveTo>
                        <a:lnTo>
                          <a:pt x="0" y="35"/>
                        </a:lnTo>
                        <a:lnTo>
                          <a:pt x="17" y="51"/>
                        </a:lnTo>
                        <a:lnTo>
                          <a:pt x="19" y="49"/>
                        </a:lnTo>
                        <a:lnTo>
                          <a:pt x="19" y="121"/>
                        </a:lnTo>
                        <a:lnTo>
                          <a:pt x="46" y="121"/>
                        </a:lnTo>
                        <a:lnTo>
                          <a:pt x="46" y="59"/>
                        </a:lnTo>
                        <a:lnTo>
                          <a:pt x="67" y="121"/>
                        </a:lnTo>
                        <a:lnTo>
                          <a:pt x="86" y="121"/>
                        </a:lnTo>
                        <a:lnTo>
                          <a:pt x="86" y="63"/>
                        </a:lnTo>
                        <a:lnTo>
                          <a:pt x="90" y="63"/>
                        </a:lnTo>
                        <a:lnTo>
                          <a:pt x="90" y="121"/>
                        </a:lnTo>
                        <a:lnTo>
                          <a:pt x="117" y="121"/>
                        </a:lnTo>
                        <a:lnTo>
                          <a:pt x="117" y="48"/>
                        </a:lnTo>
                        <a:lnTo>
                          <a:pt x="122" y="47"/>
                        </a:lnTo>
                        <a:lnTo>
                          <a:pt x="122" y="10"/>
                        </a:lnTo>
                        <a:lnTo>
                          <a:pt x="109" y="0"/>
                        </a:lnTo>
                        <a:lnTo>
                          <a:pt x="102" y="0"/>
                        </a:lnTo>
                        <a:lnTo>
                          <a:pt x="94" y="13"/>
                        </a:lnTo>
                        <a:lnTo>
                          <a:pt x="92" y="6"/>
                        </a:lnTo>
                        <a:lnTo>
                          <a:pt x="95" y="1"/>
                        </a:lnTo>
                        <a:lnTo>
                          <a:pt x="85" y="1"/>
                        </a:lnTo>
                        <a:lnTo>
                          <a:pt x="87" y="6"/>
                        </a:lnTo>
                        <a:lnTo>
                          <a:pt x="86" y="13"/>
                        </a:lnTo>
                        <a:lnTo>
                          <a:pt x="76" y="0"/>
                        </a:lnTo>
                        <a:lnTo>
                          <a:pt x="70" y="0"/>
                        </a:lnTo>
                        <a:lnTo>
                          <a:pt x="62" y="5"/>
                        </a:lnTo>
                        <a:lnTo>
                          <a:pt x="57" y="15"/>
                        </a:lnTo>
                        <a:lnTo>
                          <a:pt x="55" y="10"/>
                        </a:lnTo>
                        <a:lnTo>
                          <a:pt x="19" y="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0" name=""/>
                <p:cNvSpPr/>
                <p:nvPr/>
              </p:nvSpPr>
              <p:spPr>
                <a:xfrm>
                  <a:off x="3181320" y="2234880"/>
                  <a:ext cx="60480" cy="44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152880" y="2280600"/>
                  <a:ext cx="39600" cy="36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545" y="17137"/>
                      </a:moveTo>
                      <a:arcTo wR="10800" hR="10800" stAng="2155710" swAng="109439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545" y="17137"/>
                      </a:moveTo>
                      <a:arcTo wR="10800" hR="10800" stAng="2155710" swAng="10943902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252600" y="2234880"/>
                  <a:ext cx="2556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5" y="9373"/>
                      </a:moveTo>
                      <a:arcTo wR="10800" hR="10800" stAng="-10344321" swAng="45432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5" y="9373"/>
                      </a:moveTo>
                      <a:arcTo wR="10800" hR="10800" stAng="-10344321" swAng="4543290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314880" y="2233440"/>
                  <a:ext cx="28080" cy="2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607" y="66"/>
                      </a:moveTo>
                      <a:arcTo wR="10800" hR="10800" stAng="-5780411" swAng="57804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607" y="66"/>
                      </a:moveTo>
                      <a:arcTo wR="10800" hR="10800" stAng="-5780411" swAng="5780411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370320" y="2141280"/>
                <a:ext cx="77760" cy="254160"/>
                <a:chOff x="3370320" y="2141280"/>
                <a:chExt cx="77760" cy="254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3389400" y="2141280"/>
                  <a:ext cx="34920" cy="5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3370320" y="2198520"/>
                  <a:ext cx="77760" cy="196920"/>
                  <a:chOff x="3370320" y="2198520"/>
                  <a:chExt cx="77760" cy="19692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3375000" y="2198520"/>
                    <a:ext cx="7308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24">
                        <a:moveTo>
                          <a:pt x="21" y="4"/>
                        </a:moveTo>
                        <a:lnTo>
                          <a:pt x="20" y="9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5" y="6"/>
                        </a:lnTo>
                        <a:lnTo>
                          <a:pt x="0" y="32"/>
                        </a:lnTo>
                        <a:lnTo>
                          <a:pt x="5" y="40"/>
                        </a:lnTo>
                        <a:lnTo>
                          <a:pt x="10" y="48"/>
                        </a:lnTo>
                        <a:lnTo>
                          <a:pt x="10" y="123"/>
                        </a:lnTo>
                        <a:lnTo>
                          <a:pt x="23" y="123"/>
                        </a:lnTo>
                        <a:lnTo>
                          <a:pt x="24" y="65"/>
                        </a:lnTo>
                        <a:lnTo>
                          <a:pt x="30" y="123"/>
                        </a:lnTo>
                        <a:lnTo>
                          <a:pt x="44" y="123"/>
                        </a:lnTo>
                        <a:lnTo>
                          <a:pt x="38" y="63"/>
                        </a:lnTo>
                        <a:lnTo>
                          <a:pt x="38" y="49"/>
                        </a:lnTo>
                        <a:lnTo>
                          <a:pt x="45" y="32"/>
                        </a:lnTo>
                        <a:lnTo>
                          <a:pt x="33" y="30"/>
                        </a:lnTo>
                        <a:lnTo>
                          <a:pt x="27" y="30"/>
                        </a:lnTo>
                        <a:lnTo>
                          <a:pt x="28" y="48"/>
                        </a:lnTo>
                        <a:lnTo>
                          <a:pt x="33" y="48"/>
                        </a:lnTo>
                        <a:lnTo>
                          <a:pt x="33" y="54"/>
                        </a:lnTo>
                        <a:lnTo>
                          <a:pt x="14" y="54"/>
                        </a:lnTo>
                        <a:lnTo>
                          <a:pt x="14" y="16"/>
                        </a:lnTo>
                        <a:lnTo>
                          <a:pt x="33" y="16"/>
                        </a:lnTo>
                        <a:lnTo>
                          <a:pt x="33" y="30"/>
                        </a:lnTo>
                        <a:lnTo>
                          <a:pt x="45" y="32"/>
                        </a:lnTo>
                        <a:lnTo>
                          <a:pt x="38" y="3"/>
                        </a:lnTo>
                        <a:lnTo>
                          <a:pt x="34" y="0"/>
                        </a:lnTo>
                        <a:lnTo>
                          <a:pt x="28" y="0"/>
                        </a:lnTo>
                        <a:lnTo>
                          <a:pt x="24" y="8"/>
                        </a:lnTo>
                        <a:lnTo>
                          <a:pt x="23" y="4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3420720" y="2198520"/>
                    <a:ext cx="22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366" y="96"/>
                        </a:moveTo>
                        <a:arcTo wR="10800" hR="10800" stAng="-5857689" swAng="54020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366" y="96"/>
                        </a:moveTo>
                        <a:arcTo wR="10800" hR="10800" stAng="-5857689" swAng="5402010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3381480" y="2199960"/>
                    <a:ext cx="2160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861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861039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3370320" y="2243160"/>
                    <a:ext cx="284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76" y="18082"/>
                        </a:moveTo>
                        <a:arcTo wR="10800" hR="10800" stAng="2543846" swAng="96660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76" y="18082"/>
                        </a:moveTo>
                        <a:arcTo wR="10800" hR="10800" stAng="2543846" swAng="9666069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3421800" y="2240280"/>
                    <a:ext cx="259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681" y="721"/>
                        </a:moveTo>
                        <a:arcTo wR="10800" hR="10800" stAng="-4136517" swAng="116495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681" y="721"/>
                        </a:moveTo>
                        <a:arcTo wR="10800" hR="10800" stAng="-4136517" swAng="11649573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62" name=""/>
            <p:cNvSpPr/>
            <p:nvPr/>
          </p:nvSpPr>
          <p:spPr>
            <a:xfrm>
              <a:off x="3189240" y="2663640"/>
              <a:ext cx="396720" cy="1652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25560">
              <a:solidFill>
                <a:srgbClr val="3333cc"/>
              </a:solidFill>
              <a:miter/>
            </a:ln>
            <a:effectLst>
              <a:outerShdw dist="0" dir="0" blurRad="0" rotWithShape="0">
                <a:srgbClr val="00a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56040" y="2663640"/>
              <a:ext cx="355680" cy="2030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38640" y="3190680"/>
              <a:ext cx="293400" cy="1396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33720" y="3803400"/>
              <a:ext cx="291960" cy="1396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3684600" y="4201920"/>
              <a:ext cx="150840" cy="320760"/>
              <a:chOff x="3684600" y="4201920"/>
              <a:chExt cx="150840" cy="32076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3684600" y="4201920"/>
                <a:ext cx="150840" cy="320760"/>
                <a:chOff x="3684600" y="4201920"/>
                <a:chExt cx="150840" cy="3207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3684600" y="4244760"/>
                  <a:ext cx="150840" cy="277920"/>
                </a:xfrm>
                <a:custGeom>
                  <a:avLst/>
                  <a:gdLst/>
                  <a:ahLst/>
                  <a:rect l="l" t="t" r="r" b="b"/>
                  <a:pathLst>
                    <a:path w="95" h="175">
                      <a:moveTo>
                        <a:pt x="94" y="2"/>
                      </a:moveTo>
                      <a:lnTo>
                        <a:pt x="94" y="144"/>
                      </a:lnTo>
                      <a:lnTo>
                        <a:pt x="92" y="149"/>
                      </a:lnTo>
                      <a:lnTo>
                        <a:pt x="90" y="153"/>
                      </a:lnTo>
                      <a:lnTo>
                        <a:pt x="87" y="158"/>
                      </a:lnTo>
                      <a:lnTo>
                        <a:pt x="82" y="162"/>
                      </a:lnTo>
                      <a:lnTo>
                        <a:pt x="76" y="166"/>
                      </a:lnTo>
                      <a:lnTo>
                        <a:pt x="70" y="170"/>
                      </a:lnTo>
                      <a:lnTo>
                        <a:pt x="63" y="171"/>
                      </a:lnTo>
                      <a:lnTo>
                        <a:pt x="57" y="172"/>
                      </a:lnTo>
                      <a:lnTo>
                        <a:pt x="51" y="174"/>
                      </a:lnTo>
                      <a:lnTo>
                        <a:pt x="44" y="174"/>
                      </a:lnTo>
                      <a:lnTo>
                        <a:pt x="37" y="172"/>
                      </a:lnTo>
                      <a:lnTo>
                        <a:pt x="31" y="171"/>
                      </a:lnTo>
                      <a:lnTo>
                        <a:pt x="24" y="170"/>
                      </a:lnTo>
                      <a:lnTo>
                        <a:pt x="18" y="167"/>
                      </a:lnTo>
                      <a:lnTo>
                        <a:pt x="13" y="163"/>
                      </a:lnTo>
                      <a:lnTo>
                        <a:pt x="8" y="160"/>
                      </a:lnTo>
                      <a:lnTo>
                        <a:pt x="4" y="155"/>
                      </a:lnTo>
                      <a:lnTo>
                        <a:pt x="3" y="152"/>
                      </a:lnTo>
                      <a:lnTo>
                        <a:pt x="1" y="148"/>
                      </a:lnTo>
                      <a:lnTo>
                        <a:pt x="0" y="143"/>
                      </a:lnTo>
                      <a:lnTo>
                        <a:pt x="0" y="0"/>
                      </a:lnTo>
                      <a:lnTo>
                        <a:pt x="94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cap="rnd" w="2556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697200" y="4201920"/>
                  <a:ext cx="12384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w="255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3736800" y="4330440"/>
                <a:ext cx="81000" cy="10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 flipV="1">
              <a:off x="3790800" y="3644280"/>
              <a:ext cx="0" cy="15228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09840" y="3657240"/>
              <a:ext cx="0" cy="12708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91080" y="3578040"/>
              <a:ext cx="0" cy="20628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46760" y="3501720"/>
              <a:ext cx="15840" cy="28260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32160" y="2447640"/>
              <a:ext cx="0" cy="1778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13280" y="2390400"/>
              <a:ext cx="42840" cy="2350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57360" y="2866680"/>
              <a:ext cx="25560" cy="1778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56120" y="2904840"/>
              <a:ext cx="0" cy="1396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73560" y="2904840"/>
              <a:ext cx="25200" cy="1396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014640" y="4063680"/>
              <a:ext cx="25560" cy="1144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3255840" y="4063680"/>
              <a:ext cx="114480" cy="152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370320" y="4063680"/>
              <a:ext cx="38160" cy="152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21080" y="3082680"/>
              <a:ext cx="12600" cy="8892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84440" y="3349440"/>
              <a:ext cx="0" cy="12708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36920" y="3082680"/>
              <a:ext cx="203400" cy="3938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3065400" y="3962160"/>
              <a:ext cx="76320" cy="8892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89240" y="3962160"/>
              <a:ext cx="54000" cy="8892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421080" y="3644640"/>
              <a:ext cx="50760" cy="4190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752640" y="3949200"/>
              <a:ext cx="0" cy="114120"/>
            </a:xfrm>
            <a:prstGeom prst="line">
              <a:avLst/>
            </a:prstGeom>
            <a:ln w="1260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747960" y="4079520"/>
              <a:ext cx="4680" cy="795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56120" y="3082680"/>
              <a:ext cx="0" cy="8892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74880" y="4287600"/>
              <a:ext cx="18288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02200" y="3803400"/>
              <a:ext cx="253800" cy="13968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83080" y="3803400"/>
              <a:ext cx="257040" cy="13968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905360" y="3803400"/>
              <a:ext cx="250920" cy="13968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201840" y="3489120"/>
              <a:ext cx="1897200" cy="155520"/>
              <a:chOff x="3201840" y="3489120"/>
              <a:chExt cx="1897200" cy="155520"/>
            </a:xfrm>
          </p:grpSpPr>
          <p:sp>
            <p:nvSpPr>
              <p:cNvPr id="597" name=""/>
              <p:cNvSpPr/>
              <p:nvPr/>
            </p:nvSpPr>
            <p:spPr>
              <a:xfrm>
                <a:off x="3201840" y="3489120"/>
                <a:ext cx="17478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81400" y="3565440"/>
                <a:ext cx="17413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357360" y="3644640"/>
                <a:ext cx="1741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3529080" y="3803400"/>
              <a:ext cx="291960" cy="1396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56120" y="3349440"/>
              <a:ext cx="0" cy="2030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49560" y="3190680"/>
              <a:ext cx="328680" cy="1396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905200" y="4135320"/>
              <a:ext cx="176040" cy="231840"/>
              <a:chOff x="2905200" y="4135320"/>
              <a:chExt cx="176040" cy="23184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2905200" y="4135320"/>
                <a:ext cx="152280" cy="231840"/>
                <a:chOff x="2905200" y="4135320"/>
                <a:chExt cx="152280" cy="23184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2905200" y="4160520"/>
                  <a:ext cx="152280" cy="206640"/>
                </a:xfrm>
                <a:custGeom>
                  <a:avLst/>
                  <a:gdLst/>
                  <a:ahLst/>
                  <a:rect l="l" t="t" r="r" b="b"/>
                  <a:pathLst>
                    <a:path w="96" h="130">
                      <a:moveTo>
                        <a:pt x="95" y="1"/>
                      </a:moveTo>
                      <a:lnTo>
                        <a:pt x="95" y="106"/>
                      </a:lnTo>
                      <a:lnTo>
                        <a:pt x="93" y="110"/>
                      </a:lnTo>
                      <a:lnTo>
                        <a:pt x="91" y="114"/>
                      </a:lnTo>
                      <a:lnTo>
                        <a:pt x="88" y="117"/>
                      </a:lnTo>
                      <a:lnTo>
                        <a:pt x="83" y="120"/>
                      </a:lnTo>
                      <a:lnTo>
                        <a:pt x="77" y="123"/>
                      </a:lnTo>
                      <a:lnTo>
                        <a:pt x="71" y="125"/>
                      </a:lnTo>
                      <a:lnTo>
                        <a:pt x="64" y="126"/>
                      </a:lnTo>
                      <a:lnTo>
                        <a:pt x="58" y="128"/>
                      </a:lnTo>
                      <a:lnTo>
                        <a:pt x="52" y="129"/>
                      </a:lnTo>
                      <a:lnTo>
                        <a:pt x="45" y="129"/>
                      </a:lnTo>
                      <a:lnTo>
                        <a:pt x="38" y="128"/>
                      </a:lnTo>
                      <a:lnTo>
                        <a:pt x="32" y="127"/>
                      </a:lnTo>
                      <a:lnTo>
                        <a:pt x="24" y="125"/>
                      </a:lnTo>
                      <a:lnTo>
                        <a:pt x="18" y="124"/>
                      </a:lnTo>
                      <a:lnTo>
                        <a:pt x="14" y="122"/>
                      </a:lnTo>
                      <a:lnTo>
                        <a:pt x="8" y="118"/>
                      </a:lnTo>
                      <a:lnTo>
                        <a:pt x="5" y="115"/>
                      </a:lnTo>
                      <a:lnTo>
                        <a:pt x="3" y="113"/>
                      </a:lnTo>
                      <a:lnTo>
                        <a:pt x="1" y="109"/>
                      </a:lnTo>
                      <a:lnTo>
                        <a:pt x="0" y="106"/>
                      </a:lnTo>
                      <a:lnTo>
                        <a:pt x="0" y="0"/>
                      </a:lnTo>
                      <a:lnTo>
                        <a:pt x="95" y="1"/>
                      </a:lnTo>
                    </a:path>
                  </a:pathLst>
                </a:cu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cap="rnd" w="2556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917800" y="4135320"/>
                  <a:ext cx="125280" cy="4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w="255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2914560" y="4203360"/>
                <a:ext cx="16668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2900160" y="4186080"/>
              <a:ext cx="1843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255840" y="4190760"/>
              <a:ext cx="343800" cy="369000"/>
              <a:chOff x="3255840" y="4190760"/>
              <a:chExt cx="343800" cy="36900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3255840" y="4190760"/>
                <a:ext cx="254160" cy="331920"/>
                <a:chOff x="3255840" y="4190760"/>
                <a:chExt cx="254160" cy="3319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255840" y="4232160"/>
                  <a:ext cx="254160" cy="290520"/>
                </a:xfrm>
                <a:custGeom>
                  <a:avLst/>
                  <a:gdLst/>
                  <a:ahLst/>
                  <a:rect l="l" t="t" r="r" b="b"/>
                  <a:pathLst>
                    <a:path w="160" h="183">
                      <a:moveTo>
                        <a:pt x="159" y="2"/>
                      </a:moveTo>
                      <a:lnTo>
                        <a:pt x="159" y="150"/>
                      </a:lnTo>
                      <a:lnTo>
                        <a:pt x="156" y="156"/>
                      </a:lnTo>
                      <a:lnTo>
                        <a:pt x="153" y="160"/>
                      </a:lnTo>
                      <a:lnTo>
                        <a:pt x="146" y="165"/>
                      </a:lnTo>
                      <a:lnTo>
                        <a:pt x="139" y="169"/>
                      </a:lnTo>
                      <a:lnTo>
                        <a:pt x="129" y="174"/>
                      </a:lnTo>
                      <a:lnTo>
                        <a:pt x="119" y="177"/>
                      </a:lnTo>
                      <a:lnTo>
                        <a:pt x="108" y="179"/>
                      </a:lnTo>
                      <a:lnTo>
                        <a:pt x="96" y="180"/>
                      </a:lnTo>
                      <a:lnTo>
                        <a:pt x="86" y="182"/>
                      </a:lnTo>
                      <a:lnTo>
                        <a:pt x="75" y="182"/>
                      </a:lnTo>
                      <a:lnTo>
                        <a:pt x="63" y="180"/>
                      </a:lnTo>
                      <a:lnTo>
                        <a:pt x="53" y="179"/>
                      </a:lnTo>
                      <a:lnTo>
                        <a:pt x="41" y="177"/>
                      </a:lnTo>
                      <a:lnTo>
                        <a:pt x="31" y="175"/>
                      </a:lnTo>
                      <a:lnTo>
                        <a:pt x="22" y="171"/>
                      </a:lnTo>
                      <a:lnTo>
                        <a:pt x="14" y="167"/>
                      </a:lnTo>
                      <a:lnTo>
                        <a:pt x="7" y="162"/>
                      </a:lnTo>
                      <a:lnTo>
                        <a:pt x="4" y="159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0"/>
                      </a:lnTo>
                      <a:lnTo>
                        <a:pt x="159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cap="rnd" w="2556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268800" y="4190760"/>
                  <a:ext cx="22680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w="255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292200" y="4294080"/>
                <a:ext cx="30744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3838680" y="2116080"/>
              <a:ext cx="295200" cy="269640"/>
              <a:chOff x="3838680" y="2116080"/>
              <a:chExt cx="295200" cy="26964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3838680" y="2151000"/>
                <a:ext cx="195120" cy="234720"/>
                <a:chOff x="3838680" y="2151000"/>
                <a:chExt cx="195120" cy="234720"/>
              </a:xfrm>
            </p:grpSpPr>
            <p:grpSp>
              <p:nvGrpSpPr>
                <p:cNvPr id="616" name=""/>
                <p:cNvGrpSpPr/>
                <p:nvPr/>
              </p:nvGrpSpPr>
              <p:grpSpPr>
                <a:xfrm>
                  <a:off x="3841560" y="2151000"/>
                  <a:ext cx="192240" cy="234720"/>
                  <a:chOff x="3841560" y="2151000"/>
                  <a:chExt cx="192240" cy="23472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3870360" y="2151000"/>
                    <a:ext cx="58680" cy="47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3951360" y="2151000"/>
                    <a:ext cx="61920" cy="47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841560" y="2201760"/>
                    <a:ext cx="19224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16">
                        <a:moveTo>
                          <a:pt x="19" y="8"/>
                        </a:moveTo>
                        <a:lnTo>
                          <a:pt x="0" y="34"/>
                        </a:lnTo>
                        <a:lnTo>
                          <a:pt x="17" y="48"/>
                        </a:lnTo>
                        <a:lnTo>
                          <a:pt x="19" y="47"/>
                        </a:lnTo>
                        <a:lnTo>
                          <a:pt x="19" y="115"/>
                        </a:lnTo>
                        <a:lnTo>
                          <a:pt x="45" y="115"/>
                        </a:lnTo>
                        <a:lnTo>
                          <a:pt x="45" y="55"/>
                        </a:lnTo>
                        <a:lnTo>
                          <a:pt x="67" y="115"/>
                        </a:lnTo>
                        <a:lnTo>
                          <a:pt x="85" y="115"/>
                        </a:lnTo>
                        <a:lnTo>
                          <a:pt x="85" y="60"/>
                        </a:lnTo>
                        <a:lnTo>
                          <a:pt x="88" y="60"/>
                        </a:lnTo>
                        <a:lnTo>
                          <a:pt x="89" y="115"/>
                        </a:lnTo>
                        <a:lnTo>
                          <a:pt x="115" y="115"/>
                        </a:lnTo>
                        <a:lnTo>
                          <a:pt x="115" y="45"/>
                        </a:lnTo>
                        <a:lnTo>
                          <a:pt x="120" y="45"/>
                        </a:lnTo>
                        <a:lnTo>
                          <a:pt x="120" y="10"/>
                        </a:lnTo>
                        <a:lnTo>
                          <a:pt x="107" y="0"/>
                        </a:lnTo>
                        <a:lnTo>
                          <a:pt x="100" y="0"/>
                        </a:lnTo>
                        <a:lnTo>
                          <a:pt x="92" y="12"/>
                        </a:lnTo>
                        <a:lnTo>
                          <a:pt x="90" y="5"/>
                        </a:lnTo>
                        <a:lnTo>
                          <a:pt x="94" y="1"/>
                        </a:lnTo>
                        <a:lnTo>
                          <a:pt x="83" y="1"/>
                        </a:lnTo>
                        <a:lnTo>
                          <a:pt x="86" y="5"/>
                        </a:lnTo>
                        <a:lnTo>
                          <a:pt x="84" y="12"/>
                        </a:lnTo>
                        <a:lnTo>
                          <a:pt x="76" y="0"/>
                        </a:lnTo>
                        <a:lnTo>
                          <a:pt x="69" y="0"/>
                        </a:lnTo>
                        <a:lnTo>
                          <a:pt x="60" y="5"/>
                        </a:lnTo>
                        <a:lnTo>
                          <a:pt x="57" y="14"/>
                        </a:lnTo>
                        <a:lnTo>
                          <a:pt x="54" y="10"/>
                        </a:lnTo>
                        <a:lnTo>
                          <a:pt x="19" y="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0" name=""/>
                <p:cNvSpPr/>
                <p:nvPr/>
              </p:nvSpPr>
              <p:spPr>
                <a:xfrm>
                  <a:off x="3870360" y="2203200"/>
                  <a:ext cx="57240" cy="4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838680" y="2250720"/>
                  <a:ext cx="37800" cy="2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40" y="17004"/>
                      </a:moveTo>
                      <a:arcTo wR="10800" hR="10800" stAng="2103565" swAng="111854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40" y="17004"/>
                      </a:moveTo>
                      <a:arcTo wR="10800" hR="10800" stAng="2103565" swAng="11185443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941640" y="220464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3" y="9460"/>
                      </a:moveTo>
                      <a:arcTo wR="10800" hR="10800" stAng="-10372498" swAng="4544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3" y="9460"/>
                      </a:moveTo>
                      <a:arcTo wR="10800" hR="10800" stAng="-10372498" swAng="4544997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001760" y="2204640"/>
                  <a:ext cx="2844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39" y="52"/>
                      </a:moveTo>
                      <a:arcTo wR="10800" hR="10800" stAng="-5738156" swAng="52574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39" y="52"/>
                      </a:moveTo>
                      <a:arcTo wR="10800" hR="10800" stAng="-5738156" swAng="5257483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4060800" y="2116080"/>
                <a:ext cx="73080" cy="244440"/>
                <a:chOff x="4060800" y="2116080"/>
                <a:chExt cx="73080" cy="2444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076640" y="2116080"/>
                  <a:ext cx="36360" cy="48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6" name=""/>
                <p:cNvGrpSpPr/>
                <p:nvPr/>
              </p:nvGrpSpPr>
              <p:grpSpPr>
                <a:xfrm>
                  <a:off x="4060800" y="2169720"/>
                  <a:ext cx="73080" cy="190800"/>
                  <a:chOff x="4060800" y="2169720"/>
                  <a:chExt cx="73080" cy="19080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4060800" y="2169720"/>
                    <a:ext cx="7308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20">
                        <a:moveTo>
                          <a:pt x="21" y="4"/>
                        </a:moveTo>
                        <a:lnTo>
                          <a:pt x="20" y="8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5" y="6"/>
                        </a:lnTo>
                        <a:lnTo>
                          <a:pt x="0" y="32"/>
                        </a:lnTo>
                        <a:lnTo>
                          <a:pt x="5" y="39"/>
                        </a:lnTo>
                        <a:lnTo>
                          <a:pt x="10" y="46"/>
                        </a:lnTo>
                        <a:lnTo>
                          <a:pt x="10" y="119"/>
                        </a:lnTo>
                        <a:lnTo>
                          <a:pt x="23" y="119"/>
                        </a:lnTo>
                        <a:lnTo>
                          <a:pt x="24" y="63"/>
                        </a:lnTo>
                        <a:lnTo>
                          <a:pt x="30" y="119"/>
                        </a:lnTo>
                        <a:lnTo>
                          <a:pt x="44" y="119"/>
                        </a:lnTo>
                        <a:lnTo>
                          <a:pt x="38" y="62"/>
                        </a:lnTo>
                        <a:lnTo>
                          <a:pt x="38" y="47"/>
                        </a:lnTo>
                        <a:lnTo>
                          <a:pt x="45" y="31"/>
                        </a:lnTo>
                        <a:lnTo>
                          <a:pt x="33" y="29"/>
                        </a:lnTo>
                        <a:lnTo>
                          <a:pt x="27" y="29"/>
                        </a:lnTo>
                        <a:lnTo>
                          <a:pt x="28" y="46"/>
                        </a:lnTo>
                        <a:lnTo>
                          <a:pt x="33" y="46"/>
                        </a:lnTo>
                        <a:lnTo>
                          <a:pt x="33" y="53"/>
                        </a:lnTo>
                        <a:lnTo>
                          <a:pt x="14" y="53"/>
                        </a:lnTo>
                        <a:lnTo>
                          <a:pt x="14" y="15"/>
                        </a:lnTo>
                        <a:lnTo>
                          <a:pt x="33" y="15"/>
                        </a:lnTo>
                        <a:lnTo>
                          <a:pt x="33" y="29"/>
                        </a:lnTo>
                        <a:lnTo>
                          <a:pt x="45" y="31"/>
                        </a:lnTo>
                        <a:lnTo>
                          <a:pt x="38" y="3"/>
                        </a:lnTo>
                        <a:lnTo>
                          <a:pt x="34" y="0"/>
                        </a:lnTo>
                        <a:lnTo>
                          <a:pt x="28" y="0"/>
                        </a:lnTo>
                        <a:lnTo>
                          <a:pt x="24" y="7"/>
                        </a:lnTo>
                        <a:lnTo>
                          <a:pt x="23" y="4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108680" y="2171520"/>
                    <a:ext cx="216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373" y="95"/>
                        </a:moveTo>
                        <a:arcTo wR="10800" hR="10800" stAng="-5855678" swAng="585567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373" y="95"/>
                        </a:moveTo>
                        <a:arcTo wR="10800" hR="10800" stAng="-5855678" swAng="5855678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4067280" y="2174760"/>
                    <a:ext cx="219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8234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823472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4060800" y="2212560"/>
                    <a:ext cx="226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000" y="17829"/>
                        </a:moveTo>
                        <a:arcTo wR="10800" hR="10800" stAng="2436077" swAng="980736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000" y="17829"/>
                        </a:moveTo>
                        <a:arcTo wR="10800" hR="10800" stAng="2436077" swAng="9807364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110480" y="2212920"/>
                    <a:ext cx="212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232" y="951"/>
                        </a:moveTo>
                        <a:arcTo wR="10800" hR="10800" stAng="-3946335" swAng="115585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232" y="951"/>
                        </a:moveTo>
                        <a:arcTo wR="10800" hR="10800" stAng="-3946335" swAng="11558528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32" name=""/>
            <p:cNvGrpSpPr/>
            <p:nvPr/>
          </p:nvGrpSpPr>
          <p:grpSpPr>
            <a:xfrm>
              <a:off x="4638600" y="2522160"/>
              <a:ext cx="352440" cy="519840"/>
              <a:chOff x="4638600" y="2522160"/>
              <a:chExt cx="352440" cy="519840"/>
            </a:xfrm>
          </p:grpSpPr>
          <p:sp>
            <p:nvSpPr>
              <p:cNvPr id="633" name=""/>
              <p:cNvSpPr/>
              <p:nvPr/>
            </p:nvSpPr>
            <p:spPr>
              <a:xfrm>
                <a:off x="4654440" y="2522160"/>
                <a:ext cx="200160" cy="301680"/>
              </a:xfrm>
              <a:prstGeom prst="cube">
                <a:avLst>
                  <a:gd name="adj" fmla="val 24995"/>
                </a:avLst>
              </a:prstGeom>
              <a:solidFill>
                <a:srgbClr val="aa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38600" y="2600280"/>
                <a:ext cx="35244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0880"/>
                    <a:tab algn="l" pos="1301760"/>
                    <a:tab algn="l" pos="1952640"/>
                    <a:tab algn="l" pos="2603520"/>
                    <a:tab algn="l" pos="3254400"/>
                    <a:tab algn="l" pos="3905280"/>
                    <a:tab algn="l" pos="4556160"/>
                    <a:tab algn="l" pos="5207040"/>
                    <a:tab algn="l" pos="5857920"/>
                    <a:tab algn="l" pos="6508800"/>
                    <a:tab algn="l" pos="7159680"/>
                    <a:tab algn="l" pos="7810560"/>
                    <a:tab algn="l" pos="8461440"/>
                    <a:tab algn="l" pos="9112320"/>
                    <a:tab algn="l" pos="9763200"/>
                    <a:tab algn="l" pos="104140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4635360" y="3190680"/>
              <a:ext cx="333360" cy="1396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49840" y="2866680"/>
              <a:ext cx="25200" cy="1778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798800" y="3087360"/>
              <a:ext cx="0" cy="842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98800" y="3352680"/>
              <a:ext cx="0" cy="2793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4054320" y="4222440"/>
              <a:ext cx="582840" cy="336960"/>
              <a:chOff x="4054320" y="4222440"/>
              <a:chExt cx="582840" cy="336960"/>
            </a:xfrm>
          </p:grpSpPr>
          <p:sp>
            <p:nvSpPr>
              <p:cNvPr id="640" name=""/>
              <p:cNvSpPr/>
              <p:nvPr/>
            </p:nvSpPr>
            <p:spPr>
              <a:xfrm>
                <a:off x="4054320" y="4222440"/>
                <a:ext cx="324000" cy="301680"/>
              </a:xfrm>
              <a:prstGeom prst="cube">
                <a:avLst>
                  <a:gd name="adj" fmla="val 24995"/>
                </a:avLst>
              </a:prstGeom>
              <a:solidFill>
                <a:srgbClr val="aa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86360" y="4300200"/>
                <a:ext cx="55080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0880"/>
                    <a:tab algn="l" pos="1301760"/>
                    <a:tab algn="l" pos="1952640"/>
                    <a:tab algn="l" pos="2603520"/>
                    <a:tab algn="l" pos="3254400"/>
                    <a:tab algn="l" pos="3905280"/>
                    <a:tab algn="l" pos="4556160"/>
                    <a:tab algn="l" pos="5207040"/>
                    <a:tab algn="l" pos="5857920"/>
                    <a:tab algn="l" pos="6508800"/>
                    <a:tab algn="l" pos="7159680"/>
                    <a:tab algn="l" pos="7810560"/>
                    <a:tab algn="l" pos="8461440"/>
                    <a:tab algn="l" pos="9112320"/>
                    <a:tab algn="l" pos="9763200"/>
                    <a:tab algn="l" pos="104140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3949560" y="4086000"/>
              <a:ext cx="244440" cy="1522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97280" y="3958920"/>
              <a:ext cx="108000" cy="921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5796000" y="1584360"/>
            <a:ext cx="23320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noAutofit/>
          </a:bodyPr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M: Protocol Mach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cc00ff"/>
                </a:solidFill>
                <a:latin typeface="Arial"/>
              </a:rPr>
              <a:t>LS:  Library Serv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Arial"/>
              </a:rPr>
              <a:t>IC:   Interface 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00cc99"/>
                </a:solidFill>
                <a:latin typeface="Arial"/>
              </a:rPr>
              <a:t>IS:   Information Sour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aa0000"/>
                </a:solidFill>
                <a:latin typeface="Arial"/>
              </a:rPr>
              <a:t>IPS: Information </a:t>
            </a:r>
            <a:br>
              <a:rPr sz="1500"/>
            </a:br>
            <a:r>
              <a:rPr b="1" lang="en-US" sz="1500" spc="-1" strike="noStrike">
                <a:solidFill>
                  <a:srgbClr val="aa0000"/>
                </a:solidFill>
                <a:latin typeface="Arial"/>
              </a:rPr>
              <a:t>   Processing Serv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944640" y="5322960"/>
            <a:ext cx="42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objects, collections, services, platforms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0880" y="0"/>
            <a:ext cx="7385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b">
            <a:noAutofit/>
          </a:bodyPr>
          <a:p>
            <a:pPr algn="ct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Making Digital Libraries Infrastructure Requires Dealing with heterogeneity at Many Level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49200" y="247680"/>
            <a:ext cx="73850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b">
            <a:noAutofit/>
          </a:bodyPr>
          <a:p>
            <a:pPr algn="ct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Making Digital Libraries Infrastructure 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Merging Intellectu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5520" y="1581120"/>
            <a:ext cx="4078080" cy="2459160"/>
          </a:xfrm>
          <a:prstGeom prst="rect">
            <a:avLst/>
          </a:prstGeom>
          <a:noFill/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tional Libraries St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ion, Organization, Structure for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ization,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ysical objects &amp; standard gen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10240" y="1600200"/>
            <a:ext cx="4174920" cy="2440080"/>
          </a:xfrm>
          <a:prstGeom prst="rect">
            <a:avLst/>
          </a:prstGeom>
          <a:noFill/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mporary Technological Capabilities (e.g. WWW) St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exibility, Op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pid 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ntralization (geographic, administr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gital objects, old+ new gen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95480" y="4761000"/>
            <a:ext cx="3517920" cy="1697040"/>
          </a:xfrm>
          <a:prstGeom prst="rect">
            <a:avLst/>
          </a:prstGeom>
          <a:noFill/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Space for Digital Libraries &amp; Bey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55760" y="4135320"/>
            <a:ext cx="1397160" cy="55908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430960" y="4078440"/>
            <a:ext cx="1428480" cy="63468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825480" y="285840"/>
            <a:ext cx="73850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b">
            <a:noAutofit/>
          </a:bodyPr>
          <a:p>
            <a:pPr algn="ct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Making Digital Libraries Infrastructure Requires Application of Integrate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80400" y="1036800"/>
            <a:ext cx="7599600" cy="5821200"/>
            <a:chOff x="680400" y="1036800"/>
            <a:chExt cx="7599600" cy="5821200"/>
          </a:xfrm>
        </p:grpSpPr>
        <p:grpSp>
          <p:nvGrpSpPr>
            <p:cNvPr id="655" name=""/>
            <p:cNvGrpSpPr/>
            <p:nvPr/>
          </p:nvGrpSpPr>
          <p:grpSpPr>
            <a:xfrm>
              <a:off x="680400" y="1036800"/>
              <a:ext cx="7590960" cy="5821200"/>
              <a:chOff x="680400" y="1036800"/>
              <a:chExt cx="7590960" cy="5821200"/>
            </a:xfrm>
          </p:grpSpPr>
          <p:pic>
            <p:nvPicPr>
              <p:cNvPr id="6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32200" y="1224360"/>
                <a:ext cx="7139160" cy="51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7" name=""/>
              <p:cNvSpPr/>
              <p:nvPr/>
            </p:nvSpPr>
            <p:spPr>
              <a:xfrm>
                <a:off x="864360" y="5890680"/>
                <a:ext cx="11095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udio Lev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80200" y="5446800"/>
                <a:ext cx="10501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ey Wor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30880" y="4547880"/>
                <a:ext cx="1446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ord Releva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5000" y="3443760"/>
                <a:ext cx="1396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mera Mo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83640" y="2567160"/>
                <a:ext cx="13168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cene Chang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80400" y="1646280"/>
                <a:ext cx="21686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istogram Scene Analy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055520" y="1036800"/>
                <a:ext cx="70516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92080" y="6464520"/>
                <a:ext cx="192168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©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arnegie Mellon University 2/9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740520" y="1405080"/>
              <a:ext cx="7539480" cy="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93840" y="0"/>
            <a:ext cx="78483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b">
            <a:noAutofit/>
          </a:bodyPr>
          <a:p>
            <a:pPr algn="ct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Making Digital Libraries Infrastructure Requires Building Large Collections of Divers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1371600" y="2044800"/>
          <a:ext cx="6083280" cy="48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44800"/>
                    <a:ext cx="608328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"/>
          <p:cNvSpPr/>
          <p:nvPr/>
        </p:nvSpPr>
        <p:spPr>
          <a:xfrm>
            <a:off x="1278720" y="17748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C Berkeley Testb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6880" y="2541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Making Digital Libraries Infrastructure Means</a:t>
            </a:r>
            <a:br>
              <a:rPr sz="2400"/>
            </a:b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Supporting More than Query</a:t>
            </a: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338120" y="1498680"/>
            <a:ext cx="7131240" cy="3811680"/>
            <a:chOff x="1338120" y="1498680"/>
            <a:chExt cx="7131240" cy="3811680"/>
          </a:xfrm>
        </p:grpSpPr>
        <p:sp>
          <p:nvSpPr>
            <p:cNvPr id="672" name=""/>
            <p:cNvSpPr/>
            <p:nvPr/>
          </p:nvSpPr>
          <p:spPr>
            <a:xfrm>
              <a:off x="1338120" y="1498680"/>
              <a:ext cx="7131240" cy="3811680"/>
            </a:xfrm>
            <a:custGeom>
              <a:avLst/>
              <a:gdLst/>
              <a:ahLst/>
              <a:rect l="l" t="t" r="r" b="b"/>
              <a:pathLst>
                <a:path w="4492" h="2401">
                  <a:moveTo>
                    <a:pt x="223" y="1030"/>
                  </a:moveTo>
                  <a:lnTo>
                    <a:pt x="203" y="1021"/>
                  </a:lnTo>
                  <a:lnTo>
                    <a:pt x="182" y="1002"/>
                  </a:lnTo>
                  <a:lnTo>
                    <a:pt x="132" y="964"/>
                  </a:lnTo>
                  <a:lnTo>
                    <a:pt x="112" y="936"/>
                  </a:lnTo>
                  <a:lnTo>
                    <a:pt x="71" y="907"/>
                  </a:lnTo>
                  <a:lnTo>
                    <a:pt x="61" y="869"/>
                  </a:lnTo>
                  <a:lnTo>
                    <a:pt x="30" y="832"/>
                  </a:lnTo>
                  <a:lnTo>
                    <a:pt x="21" y="812"/>
                  </a:lnTo>
                  <a:lnTo>
                    <a:pt x="10" y="794"/>
                  </a:lnTo>
                  <a:lnTo>
                    <a:pt x="10" y="765"/>
                  </a:lnTo>
                  <a:lnTo>
                    <a:pt x="0" y="747"/>
                  </a:lnTo>
                  <a:lnTo>
                    <a:pt x="0" y="727"/>
                  </a:lnTo>
                  <a:lnTo>
                    <a:pt x="0" y="709"/>
                  </a:lnTo>
                  <a:lnTo>
                    <a:pt x="21" y="699"/>
                  </a:lnTo>
                  <a:lnTo>
                    <a:pt x="41" y="690"/>
                  </a:lnTo>
                  <a:lnTo>
                    <a:pt x="61" y="680"/>
                  </a:lnTo>
                  <a:lnTo>
                    <a:pt x="82" y="662"/>
                  </a:lnTo>
                  <a:lnTo>
                    <a:pt x="102" y="652"/>
                  </a:lnTo>
                  <a:lnTo>
                    <a:pt x="112" y="633"/>
                  </a:lnTo>
                  <a:lnTo>
                    <a:pt x="132" y="624"/>
                  </a:lnTo>
                  <a:lnTo>
                    <a:pt x="143" y="595"/>
                  </a:lnTo>
                  <a:lnTo>
                    <a:pt x="162" y="577"/>
                  </a:lnTo>
                  <a:lnTo>
                    <a:pt x="173" y="557"/>
                  </a:lnTo>
                  <a:lnTo>
                    <a:pt x="173" y="539"/>
                  </a:lnTo>
                  <a:lnTo>
                    <a:pt x="173" y="510"/>
                  </a:lnTo>
                  <a:lnTo>
                    <a:pt x="173" y="492"/>
                  </a:lnTo>
                  <a:lnTo>
                    <a:pt x="162" y="463"/>
                  </a:lnTo>
                  <a:lnTo>
                    <a:pt x="152" y="444"/>
                  </a:lnTo>
                  <a:lnTo>
                    <a:pt x="143" y="425"/>
                  </a:lnTo>
                  <a:lnTo>
                    <a:pt x="122" y="416"/>
                  </a:lnTo>
                  <a:lnTo>
                    <a:pt x="102" y="397"/>
                  </a:lnTo>
                  <a:lnTo>
                    <a:pt x="91" y="378"/>
                  </a:lnTo>
                  <a:lnTo>
                    <a:pt x="71" y="340"/>
                  </a:lnTo>
                  <a:lnTo>
                    <a:pt x="71" y="322"/>
                  </a:lnTo>
                  <a:lnTo>
                    <a:pt x="82" y="302"/>
                  </a:lnTo>
                  <a:lnTo>
                    <a:pt x="102" y="302"/>
                  </a:lnTo>
                  <a:lnTo>
                    <a:pt x="112" y="283"/>
                  </a:lnTo>
                  <a:lnTo>
                    <a:pt x="132" y="265"/>
                  </a:lnTo>
                  <a:lnTo>
                    <a:pt x="152" y="255"/>
                  </a:lnTo>
                  <a:lnTo>
                    <a:pt x="182" y="245"/>
                  </a:lnTo>
                  <a:lnTo>
                    <a:pt x="203" y="237"/>
                  </a:lnTo>
                  <a:lnTo>
                    <a:pt x="223" y="237"/>
                  </a:lnTo>
                  <a:lnTo>
                    <a:pt x="243" y="227"/>
                  </a:lnTo>
                  <a:lnTo>
                    <a:pt x="264" y="227"/>
                  </a:lnTo>
                  <a:lnTo>
                    <a:pt x="295" y="208"/>
                  </a:lnTo>
                  <a:lnTo>
                    <a:pt x="334" y="180"/>
                  </a:lnTo>
                  <a:lnTo>
                    <a:pt x="365" y="170"/>
                  </a:lnTo>
                  <a:lnTo>
                    <a:pt x="386" y="142"/>
                  </a:lnTo>
                  <a:lnTo>
                    <a:pt x="406" y="123"/>
                  </a:lnTo>
                  <a:lnTo>
                    <a:pt x="436" y="104"/>
                  </a:lnTo>
                  <a:lnTo>
                    <a:pt x="456" y="85"/>
                  </a:lnTo>
                  <a:lnTo>
                    <a:pt x="477" y="85"/>
                  </a:lnTo>
                  <a:lnTo>
                    <a:pt x="497" y="75"/>
                  </a:lnTo>
                  <a:lnTo>
                    <a:pt x="517" y="66"/>
                  </a:lnTo>
                  <a:lnTo>
                    <a:pt x="547" y="66"/>
                  </a:lnTo>
                  <a:lnTo>
                    <a:pt x="568" y="75"/>
                  </a:lnTo>
                  <a:lnTo>
                    <a:pt x="588" y="85"/>
                  </a:lnTo>
                  <a:lnTo>
                    <a:pt x="608" y="104"/>
                  </a:lnTo>
                  <a:lnTo>
                    <a:pt x="629" y="113"/>
                  </a:lnTo>
                  <a:lnTo>
                    <a:pt x="649" y="123"/>
                  </a:lnTo>
                  <a:lnTo>
                    <a:pt x="679" y="142"/>
                  </a:lnTo>
                  <a:lnTo>
                    <a:pt x="699" y="142"/>
                  </a:lnTo>
                  <a:lnTo>
                    <a:pt x="730" y="132"/>
                  </a:lnTo>
                  <a:lnTo>
                    <a:pt x="751" y="123"/>
                  </a:lnTo>
                  <a:lnTo>
                    <a:pt x="771" y="113"/>
                  </a:lnTo>
                  <a:lnTo>
                    <a:pt x="812" y="113"/>
                  </a:lnTo>
                  <a:lnTo>
                    <a:pt x="821" y="95"/>
                  </a:lnTo>
                  <a:lnTo>
                    <a:pt x="851" y="95"/>
                  </a:lnTo>
                  <a:lnTo>
                    <a:pt x="872" y="75"/>
                  </a:lnTo>
                  <a:lnTo>
                    <a:pt x="903" y="66"/>
                  </a:lnTo>
                  <a:lnTo>
                    <a:pt x="923" y="57"/>
                  </a:lnTo>
                  <a:lnTo>
                    <a:pt x="953" y="47"/>
                  </a:lnTo>
                  <a:lnTo>
                    <a:pt x="994" y="38"/>
                  </a:lnTo>
                  <a:lnTo>
                    <a:pt x="1014" y="38"/>
                  </a:lnTo>
                  <a:lnTo>
                    <a:pt x="1064" y="28"/>
                  </a:lnTo>
                  <a:lnTo>
                    <a:pt x="1105" y="28"/>
                  </a:lnTo>
                  <a:lnTo>
                    <a:pt x="1136" y="10"/>
                  </a:lnTo>
                  <a:lnTo>
                    <a:pt x="1176" y="10"/>
                  </a:lnTo>
                  <a:lnTo>
                    <a:pt x="1207" y="10"/>
                  </a:lnTo>
                  <a:lnTo>
                    <a:pt x="1227" y="19"/>
                  </a:lnTo>
                  <a:lnTo>
                    <a:pt x="1247" y="19"/>
                  </a:lnTo>
                  <a:lnTo>
                    <a:pt x="1277" y="28"/>
                  </a:lnTo>
                  <a:lnTo>
                    <a:pt x="1288" y="47"/>
                  </a:lnTo>
                  <a:lnTo>
                    <a:pt x="1308" y="66"/>
                  </a:lnTo>
                  <a:lnTo>
                    <a:pt x="1338" y="85"/>
                  </a:lnTo>
                  <a:lnTo>
                    <a:pt x="1359" y="95"/>
                  </a:lnTo>
                  <a:lnTo>
                    <a:pt x="1379" y="95"/>
                  </a:lnTo>
                  <a:lnTo>
                    <a:pt x="1399" y="113"/>
                  </a:lnTo>
                  <a:lnTo>
                    <a:pt x="1420" y="113"/>
                  </a:lnTo>
                  <a:lnTo>
                    <a:pt x="1450" y="95"/>
                  </a:lnTo>
                  <a:lnTo>
                    <a:pt x="1470" y="95"/>
                  </a:lnTo>
                  <a:lnTo>
                    <a:pt x="1500" y="75"/>
                  </a:lnTo>
                  <a:lnTo>
                    <a:pt x="1520" y="66"/>
                  </a:lnTo>
                  <a:lnTo>
                    <a:pt x="1551" y="57"/>
                  </a:lnTo>
                  <a:lnTo>
                    <a:pt x="1592" y="38"/>
                  </a:lnTo>
                  <a:lnTo>
                    <a:pt x="1612" y="28"/>
                  </a:lnTo>
                  <a:lnTo>
                    <a:pt x="1653" y="19"/>
                  </a:lnTo>
                  <a:lnTo>
                    <a:pt x="1693" y="0"/>
                  </a:lnTo>
                  <a:lnTo>
                    <a:pt x="1744" y="0"/>
                  </a:lnTo>
                  <a:lnTo>
                    <a:pt x="1774" y="0"/>
                  </a:lnTo>
                  <a:lnTo>
                    <a:pt x="1794" y="0"/>
                  </a:lnTo>
                  <a:lnTo>
                    <a:pt x="1845" y="0"/>
                  </a:lnTo>
                  <a:lnTo>
                    <a:pt x="1876" y="0"/>
                  </a:lnTo>
                  <a:lnTo>
                    <a:pt x="1906" y="0"/>
                  </a:lnTo>
                  <a:lnTo>
                    <a:pt x="1946" y="0"/>
                  </a:lnTo>
                  <a:lnTo>
                    <a:pt x="1967" y="10"/>
                  </a:lnTo>
                  <a:lnTo>
                    <a:pt x="1997" y="19"/>
                  </a:lnTo>
                  <a:lnTo>
                    <a:pt x="2007" y="38"/>
                  </a:lnTo>
                  <a:lnTo>
                    <a:pt x="2017" y="57"/>
                  </a:lnTo>
                  <a:lnTo>
                    <a:pt x="2058" y="75"/>
                  </a:lnTo>
                  <a:lnTo>
                    <a:pt x="2078" y="85"/>
                  </a:lnTo>
                  <a:lnTo>
                    <a:pt x="2098" y="95"/>
                  </a:lnTo>
                  <a:lnTo>
                    <a:pt x="2119" y="95"/>
                  </a:lnTo>
                  <a:lnTo>
                    <a:pt x="2159" y="113"/>
                  </a:lnTo>
                  <a:lnTo>
                    <a:pt x="2180" y="113"/>
                  </a:lnTo>
                  <a:lnTo>
                    <a:pt x="2210" y="104"/>
                  </a:lnTo>
                  <a:lnTo>
                    <a:pt x="2230" y="104"/>
                  </a:lnTo>
                  <a:lnTo>
                    <a:pt x="2271" y="95"/>
                  </a:lnTo>
                  <a:lnTo>
                    <a:pt x="2302" y="85"/>
                  </a:lnTo>
                  <a:lnTo>
                    <a:pt x="2341" y="75"/>
                  </a:lnTo>
                  <a:lnTo>
                    <a:pt x="2362" y="75"/>
                  </a:lnTo>
                  <a:lnTo>
                    <a:pt x="2413" y="57"/>
                  </a:lnTo>
                  <a:lnTo>
                    <a:pt x="2463" y="57"/>
                  </a:lnTo>
                  <a:lnTo>
                    <a:pt x="2504" y="57"/>
                  </a:lnTo>
                  <a:lnTo>
                    <a:pt x="2545" y="28"/>
                  </a:lnTo>
                  <a:lnTo>
                    <a:pt x="2606" y="19"/>
                  </a:lnTo>
                  <a:lnTo>
                    <a:pt x="2656" y="19"/>
                  </a:lnTo>
                  <a:lnTo>
                    <a:pt x="2697" y="10"/>
                  </a:lnTo>
                  <a:lnTo>
                    <a:pt x="2737" y="10"/>
                  </a:lnTo>
                  <a:lnTo>
                    <a:pt x="2778" y="10"/>
                  </a:lnTo>
                  <a:lnTo>
                    <a:pt x="2828" y="10"/>
                  </a:lnTo>
                  <a:lnTo>
                    <a:pt x="2869" y="10"/>
                  </a:lnTo>
                  <a:lnTo>
                    <a:pt x="2889" y="10"/>
                  </a:lnTo>
                  <a:lnTo>
                    <a:pt x="2930" y="10"/>
                  </a:lnTo>
                  <a:lnTo>
                    <a:pt x="2950" y="10"/>
                  </a:lnTo>
                  <a:lnTo>
                    <a:pt x="2971" y="19"/>
                  </a:lnTo>
                  <a:lnTo>
                    <a:pt x="3010" y="19"/>
                  </a:lnTo>
                  <a:lnTo>
                    <a:pt x="3041" y="38"/>
                  </a:lnTo>
                  <a:lnTo>
                    <a:pt x="3092" y="85"/>
                  </a:lnTo>
                  <a:lnTo>
                    <a:pt x="3112" y="95"/>
                  </a:lnTo>
                  <a:lnTo>
                    <a:pt x="3132" y="95"/>
                  </a:lnTo>
                  <a:lnTo>
                    <a:pt x="3153" y="95"/>
                  </a:lnTo>
                  <a:lnTo>
                    <a:pt x="3193" y="95"/>
                  </a:lnTo>
                  <a:lnTo>
                    <a:pt x="3214" y="95"/>
                  </a:lnTo>
                  <a:lnTo>
                    <a:pt x="3234" y="85"/>
                  </a:lnTo>
                  <a:lnTo>
                    <a:pt x="3284" y="85"/>
                  </a:lnTo>
                  <a:lnTo>
                    <a:pt x="3315" y="57"/>
                  </a:lnTo>
                  <a:lnTo>
                    <a:pt x="3355" y="57"/>
                  </a:lnTo>
                  <a:lnTo>
                    <a:pt x="3386" y="47"/>
                  </a:lnTo>
                  <a:lnTo>
                    <a:pt x="3436" y="47"/>
                  </a:lnTo>
                  <a:lnTo>
                    <a:pt x="3497" y="38"/>
                  </a:lnTo>
                  <a:lnTo>
                    <a:pt x="3518" y="19"/>
                  </a:lnTo>
                  <a:lnTo>
                    <a:pt x="3568" y="19"/>
                  </a:lnTo>
                  <a:lnTo>
                    <a:pt x="3588" y="19"/>
                  </a:lnTo>
                  <a:lnTo>
                    <a:pt x="3629" y="19"/>
                  </a:lnTo>
                  <a:lnTo>
                    <a:pt x="3649" y="19"/>
                  </a:lnTo>
                  <a:lnTo>
                    <a:pt x="3679" y="28"/>
                  </a:lnTo>
                  <a:lnTo>
                    <a:pt x="3710" y="38"/>
                  </a:lnTo>
                  <a:lnTo>
                    <a:pt x="3740" y="47"/>
                  </a:lnTo>
                  <a:lnTo>
                    <a:pt x="3771" y="57"/>
                  </a:lnTo>
                  <a:lnTo>
                    <a:pt x="3792" y="75"/>
                  </a:lnTo>
                  <a:lnTo>
                    <a:pt x="3832" y="85"/>
                  </a:lnTo>
                  <a:lnTo>
                    <a:pt x="3872" y="104"/>
                  </a:lnTo>
                  <a:lnTo>
                    <a:pt x="3903" y="123"/>
                  </a:lnTo>
                  <a:lnTo>
                    <a:pt x="3964" y="142"/>
                  </a:lnTo>
                  <a:lnTo>
                    <a:pt x="3994" y="142"/>
                  </a:lnTo>
                  <a:lnTo>
                    <a:pt x="4014" y="151"/>
                  </a:lnTo>
                  <a:lnTo>
                    <a:pt x="4035" y="170"/>
                  </a:lnTo>
                  <a:lnTo>
                    <a:pt x="4075" y="198"/>
                  </a:lnTo>
                  <a:lnTo>
                    <a:pt x="4096" y="208"/>
                  </a:lnTo>
                  <a:lnTo>
                    <a:pt x="4096" y="227"/>
                  </a:lnTo>
                  <a:lnTo>
                    <a:pt x="4136" y="265"/>
                  </a:lnTo>
                  <a:lnTo>
                    <a:pt x="4146" y="293"/>
                  </a:lnTo>
                  <a:lnTo>
                    <a:pt x="4176" y="330"/>
                  </a:lnTo>
                  <a:lnTo>
                    <a:pt x="4196" y="369"/>
                  </a:lnTo>
                  <a:lnTo>
                    <a:pt x="4207" y="387"/>
                  </a:lnTo>
                  <a:lnTo>
                    <a:pt x="4227" y="407"/>
                  </a:lnTo>
                  <a:lnTo>
                    <a:pt x="4227" y="425"/>
                  </a:lnTo>
                  <a:lnTo>
                    <a:pt x="4227" y="444"/>
                  </a:lnTo>
                  <a:lnTo>
                    <a:pt x="4217" y="472"/>
                  </a:lnTo>
                  <a:lnTo>
                    <a:pt x="4207" y="492"/>
                  </a:lnTo>
                  <a:lnTo>
                    <a:pt x="4207" y="510"/>
                  </a:lnTo>
                  <a:lnTo>
                    <a:pt x="4207" y="557"/>
                  </a:lnTo>
                  <a:lnTo>
                    <a:pt x="4207" y="586"/>
                  </a:lnTo>
                  <a:lnTo>
                    <a:pt x="4207" y="605"/>
                  </a:lnTo>
                  <a:lnTo>
                    <a:pt x="4217" y="624"/>
                  </a:lnTo>
                  <a:lnTo>
                    <a:pt x="4227" y="671"/>
                  </a:lnTo>
                  <a:lnTo>
                    <a:pt x="4248" y="690"/>
                  </a:lnTo>
                  <a:lnTo>
                    <a:pt x="4257" y="718"/>
                  </a:lnTo>
                  <a:lnTo>
                    <a:pt x="4278" y="765"/>
                  </a:lnTo>
                  <a:lnTo>
                    <a:pt x="4288" y="794"/>
                  </a:lnTo>
                  <a:lnTo>
                    <a:pt x="4329" y="832"/>
                  </a:lnTo>
                  <a:lnTo>
                    <a:pt x="4339" y="869"/>
                  </a:lnTo>
                  <a:lnTo>
                    <a:pt x="4348" y="907"/>
                  </a:lnTo>
                  <a:lnTo>
                    <a:pt x="4359" y="945"/>
                  </a:lnTo>
                  <a:lnTo>
                    <a:pt x="4359" y="964"/>
                  </a:lnTo>
                  <a:lnTo>
                    <a:pt x="4369" y="983"/>
                  </a:lnTo>
                  <a:lnTo>
                    <a:pt x="4359" y="1039"/>
                  </a:lnTo>
                  <a:lnTo>
                    <a:pt x="4348" y="1059"/>
                  </a:lnTo>
                  <a:lnTo>
                    <a:pt x="4339" y="1106"/>
                  </a:lnTo>
                  <a:lnTo>
                    <a:pt x="4318" y="1144"/>
                  </a:lnTo>
                  <a:lnTo>
                    <a:pt x="4309" y="1181"/>
                  </a:lnTo>
                  <a:lnTo>
                    <a:pt x="4298" y="1209"/>
                  </a:lnTo>
                  <a:lnTo>
                    <a:pt x="4288" y="1229"/>
                  </a:lnTo>
                  <a:lnTo>
                    <a:pt x="4278" y="1257"/>
                  </a:lnTo>
                  <a:lnTo>
                    <a:pt x="4278" y="1304"/>
                  </a:lnTo>
                  <a:lnTo>
                    <a:pt x="4278" y="1323"/>
                  </a:lnTo>
                  <a:lnTo>
                    <a:pt x="4278" y="1342"/>
                  </a:lnTo>
                  <a:lnTo>
                    <a:pt x="4298" y="1389"/>
                  </a:lnTo>
                  <a:lnTo>
                    <a:pt x="4318" y="1408"/>
                  </a:lnTo>
                  <a:lnTo>
                    <a:pt x="4348" y="1446"/>
                  </a:lnTo>
                  <a:lnTo>
                    <a:pt x="4369" y="1464"/>
                  </a:lnTo>
                  <a:lnTo>
                    <a:pt x="4369" y="1484"/>
                  </a:lnTo>
                  <a:lnTo>
                    <a:pt x="4400" y="1521"/>
                  </a:lnTo>
                  <a:lnTo>
                    <a:pt x="4420" y="1541"/>
                  </a:lnTo>
                  <a:lnTo>
                    <a:pt x="4450" y="1569"/>
                  </a:lnTo>
                  <a:lnTo>
                    <a:pt x="4470" y="1588"/>
                  </a:lnTo>
                  <a:lnTo>
                    <a:pt x="4491" y="1597"/>
                  </a:lnTo>
                  <a:lnTo>
                    <a:pt x="4481" y="1616"/>
                  </a:lnTo>
                  <a:lnTo>
                    <a:pt x="4470" y="1635"/>
                  </a:lnTo>
                  <a:lnTo>
                    <a:pt x="4461" y="1654"/>
                  </a:lnTo>
                  <a:lnTo>
                    <a:pt x="4430" y="1673"/>
                  </a:lnTo>
                  <a:lnTo>
                    <a:pt x="4420" y="1711"/>
                  </a:lnTo>
                  <a:lnTo>
                    <a:pt x="4400" y="1729"/>
                  </a:lnTo>
                  <a:lnTo>
                    <a:pt x="4379" y="1805"/>
                  </a:lnTo>
                  <a:lnTo>
                    <a:pt x="4379" y="1824"/>
                  </a:lnTo>
                  <a:lnTo>
                    <a:pt x="4369" y="1843"/>
                  </a:lnTo>
                  <a:lnTo>
                    <a:pt x="4369" y="1861"/>
                  </a:lnTo>
                  <a:lnTo>
                    <a:pt x="4379" y="1881"/>
                  </a:lnTo>
                  <a:lnTo>
                    <a:pt x="4379" y="1909"/>
                  </a:lnTo>
                  <a:lnTo>
                    <a:pt x="4379" y="1928"/>
                  </a:lnTo>
                  <a:lnTo>
                    <a:pt x="4389" y="1946"/>
                  </a:lnTo>
                  <a:lnTo>
                    <a:pt x="4389" y="1975"/>
                  </a:lnTo>
                  <a:lnTo>
                    <a:pt x="4389" y="1994"/>
                  </a:lnTo>
                  <a:lnTo>
                    <a:pt x="4369" y="2031"/>
                  </a:lnTo>
                  <a:lnTo>
                    <a:pt x="4359" y="2051"/>
                  </a:lnTo>
                  <a:lnTo>
                    <a:pt x="4329" y="2070"/>
                  </a:lnTo>
                  <a:lnTo>
                    <a:pt x="4309" y="2088"/>
                  </a:lnTo>
                  <a:lnTo>
                    <a:pt x="4257" y="2098"/>
                  </a:lnTo>
                  <a:lnTo>
                    <a:pt x="4248" y="2117"/>
                  </a:lnTo>
                  <a:lnTo>
                    <a:pt x="4207" y="2126"/>
                  </a:lnTo>
                  <a:lnTo>
                    <a:pt x="4176" y="2136"/>
                  </a:lnTo>
                  <a:lnTo>
                    <a:pt x="4157" y="2145"/>
                  </a:lnTo>
                  <a:lnTo>
                    <a:pt x="4136" y="2164"/>
                  </a:lnTo>
                  <a:lnTo>
                    <a:pt x="4116" y="2164"/>
                  </a:lnTo>
                  <a:lnTo>
                    <a:pt x="4096" y="2173"/>
                  </a:lnTo>
                  <a:lnTo>
                    <a:pt x="4065" y="2173"/>
                  </a:lnTo>
                  <a:lnTo>
                    <a:pt x="4035" y="2173"/>
                  </a:lnTo>
                  <a:lnTo>
                    <a:pt x="4014" y="2173"/>
                  </a:lnTo>
                  <a:lnTo>
                    <a:pt x="3994" y="2164"/>
                  </a:lnTo>
                  <a:lnTo>
                    <a:pt x="3974" y="2164"/>
                  </a:lnTo>
                  <a:lnTo>
                    <a:pt x="3953" y="2155"/>
                  </a:lnTo>
                  <a:lnTo>
                    <a:pt x="3933" y="2155"/>
                  </a:lnTo>
                  <a:lnTo>
                    <a:pt x="3903" y="2155"/>
                  </a:lnTo>
                  <a:lnTo>
                    <a:pt x="3862" y="2164"/>
                  </a:lnTo>
                  <a:lnTo>
                    <a:pt x="3832" y="2173"/>
                  </a:lnTo>
                  <a:lnTo>
                    <a:pt x="3781" y="2173"/>
                  </a:lnTo>
                  <a:lnTo>
                    <a:pt x="3761" y="2183"/>
                  </a:lnTo>
                  <a:lnTo>
                    <a:pt x="3740" y="2193"/>
                  </a:lnTo>
                  <a:lnTo>
                    <a:pt x="3690" y="2202"/>
                  </a:lnTo>
                  <a:lnTo>
                    <a:pt x="3649" y="2221"/>
                  </a:lnTo>
                  <a:lnTo>
                    <a:pt x="3619" y="2230"/>
                  </a:lnTo>
                  <a:lnTo>
                    <a:pt x="3588" y="2249"/>
                  </a:lnTo>
                  <a:lnTo>
                    <a:pt x="3558" y="2278"/>
                  </a:lnTo>
                  <a:lnTo>
                    <a:pt x="3538" y="2287"/>
                  </a:lnTo>
                  <a:lnTo>
                    <a:pt x="3527" y="2306"/>
                  </a:lnTo>
                  <a:lnTo>
                    <a:pt x="3518" y="2325"/>
                  </a:lnTo>
                  <a:lnTo>
                    <a:pt x="3507" y="2343"/>
                  </a:lnTo>
                  <a:lnTo>
                    <a:pt x="3488" y="2363"/>
                  </a:lnTo>
                  <a:lnTo>
                    <a:pt x="3467" y="2372"/>
                  </a:lnTo>
                  <a:lnTo>
                    <a:pt x="3447" y="2381"/>
                  </a:lnTo>
                  <a:lnTo>
                    <a:pt x="3427" y="2391"/>
                  </a:lnTo>
                  <a:lnTo>
                    <a:pt x="3406" y="2400"/>
                  </a:lnTo>
                  <a:lnTo>
                    <a:pt x="3366" y="2400"/>
                  </a:lnTo>
                  <a:lnTo>
                    <a:pt x="3315" y="2400"/>
                  </a:lnTo>
                  <a:lnTo>
                    <a:pt x="3264" y="2400"/>
                  </a:lnTo>
                  <a:lnTo>
                    <a:pt x="3214" y="2391"/>
                  </a:lnTo>
                  <a:lnTo>
                    <a:pt x="3163" y="2372"/>
                  </a:lnTo>
                  <a:lnTo>
                    <a:pt x="3123" y="2353"/>
                  </a:lnTo>
                  <a:lnTo>
                    <a:pt x="3071" y="2334"/>
                  </a:lnTo>
                  <a:lnTo>
                    <a:pt x="3051" y="2315"/>
                  </a:lnTo>
                  <a:lnTo>
                    <a:pt x="3031" y="2306"/>
                  </a:lnTo>
                  <a:lnTo>
                    <a:pt x="3031" y="2287"/>
                  </a:lnTo>
                  <a:lnTo>
                    <a:pt x="3010" y="2278"/>
                  </a:lnTo>
                  <a:lnTo>
                    <a:pt x="2971" y="2258"/>
                  </a:lnTo>
                  <a:lnTo>
                    <a:pt x="2950" y="2249"/>
                  </a:lnTo>
                  <a:lnTo>
                    <a:pt x="2919" y="2249"/>
                  </a:lnTo>
                  <a:lnTo>
                    <a:pt x="2899" y="2240"/>
                  </a:lnTo>
                  <a:lnTo>
                    <a:pt x="2879" y="2240"/>
                  </a:lnTo>
                  <a:lnTo>
                    <a:pt x="2828" y="2240"/>
                  </a:lnTo>
                  <a:lnTo>
                    <a:pt x="2767" y="2230"/>
                  </a:lnTo>
                  <a:lnTo>
                    <a:pt x="2717" y="2230"/>
                  </a:lnTo>
                  <a:lnTo>
                    <a:pt x="2666" y="2221"/>
                  </a:lnTo>
                  <a:lnTo>
                    <a:pt x="2606" y="2211"/>
                  </a:lnTo>
                  <a:lnTo>
                    <a:pt x="2554" y="2211"/>
                  </a:lnTo>
                  <a:lnTo>
                    <a:pt x="2504" y="2211"/>
                  </a:lnTo>
                  <a:lnTo>
                    <a:pt x="2463" y="2211"/>
                  </a:lnTo>
                  <a:lnTo>
                    <a:pt x="2443" y="2211"/>
                  </a:lnTo>
                  <a:lnTo>
                    <a:pt x="2413" y="2211"/>
                  </a:lnTo>
                  <a:lnTo>
                    <a:pt x="2372" y="2211"/>
                  </a:lnTo>
                  <a:lnTo>
                    <a:pt x="2352" y="2211"/>
                  </a:lnTo>
                  <a:lnTo>
                    <a:pt x="2322" y="2221"/>
                  </a:lnTo>
                  <a:lnTo>
                    <a:pt x="2291" y="2230"/>
                  </a:lnTo>
                  <a:lnTo>
                    <a:pt x="2261" y="2249"/>
                  </a:lnTo>
                  <a:lnTo>
                    <a:pt x="2200" y="2268"/>
                  </a:lnTo>
                  <a:lnTo>
                    <a:pt x="2159" y="2296"/>
                  </a:lnTo>
                  <a:lnTo>
                    <a:pt x="2139" y="2315"/>
                  </a:lnTo>
                  <a:lnTo>
                    <a:pt x="2098" y="2334"/>
                  </a:lnTo>
                  <a:lnTo>
                    <a:pt x="2078" y="2343"/>
                  </a:lnTo>
                  <a:lnTo>
                    <a:pt x="2037" y="2353"/>
                  </a:lnTo>
                  <a:lnTo>
                    <a:pt x="2017" y="2363"/>
                  </a:lnTo>
                  <a:lnTo>
                    <a:pt x="1997" y="2372"/>
                  </a:lnTo>
                  <a:lnTo>
                    <a:pt x="1957" y="2381"/>
                  </a:lnTo>
                  <a:lnTo>
                    <a:pt x="1937" y="2381"/>
                  </a:lnTo>
                  <a:lnTo>
                    <a:pt x="1885" y="2381"/>
                  </a:lnTo>
                  <a:lnTo>
                    <a:pt x="1835" y="2381"/>
                  </a:lnTo>
                  <a:lnTo>
                    <a:pt x="1785" y="2381"/>
                  </a:lnTo>
                  <a:lnTo>
                    <a:pt x="1733" y="2381"/>
                  </a:lnTo>
                  <a:lnTo>
                    <a:pt x="1683" y="2381"/>
                  </a:lnTo>
                  <a:lnTo>
                    <a:pt x="1622" y="2372"/>
                  </a:lnTo>
                  <a:lnTo>
                    <a:pt x="1541" y="2372"/>
                  </a:lnTo>
                  <a:lnTo>
                    <a:pt x="1470" y="2353"/>
                  </a:lnTo>
                  <a:lnTo>
                    <a:pt x="1420" y="2353"/>
                  </a:lnTo>
                  <a:lnTo>
                    <a:pt x="1359" y="2343"/>
                  </a:lnTo>
                  <a:lnTo>
                    <a:pt x="1318" y="2325"/>
                  </a:lnTo>
                  <a:lnTo>
                    <a:pt x="1277" y="2306"/>
                  </a:lnTo>
                  <a:lnTo>
                    <a:pt x="1247" y="2296"/>
                  </a:lnTo>
                  <a:lnTo>
                    <a:pt x="1196" y="2287"/>
                  </a:lnTo>
                  <a:lnTo>
                    <a:pt x="1166" y="2258"/>
                  </a:lnTo>
                  <a:lnTo>
                    <a:pt x="1116" y="2240"/>
                  </a:lnTo>
                  <a:lnTo>
                    <a:pt x="1095" y="2221"/>
                  </a:lnTo>
                  <a:lnTo>
                    <a:pt x="1075" y="2211"/>
                  </a:lnTo>
                  <a:lnTo>
                    <a:pt x="1024" y="2202"/>
                  </a:lnTo>
                  <a:lnTo>
                    <a:pt x="973" y="2183"/>
                  </a:lnTo>
                  <a:lnTo>
                    <a:pt x="933" y="2183"/>
                  </a:lnTo>
                  <a:lnTo>
                    <a:pt x="903" y="2183"/>
                  </a:lnTo>
                  <a:lnTo>
                    <a:pt x="851" y="2183"/>
                  </a:lnTo>
                  <a:lnTo>
                    <a:pt x="812" y="2183"/>
                  </a:lnTo>
                  <a:lnTo>
                    <a:pt x="781" y="2183"/>
                  </a:lnTo>
                  <a:lnTo>
                    <a:pt x="720" y="2183"/>
                  </a:lnTo>
                  <a:lnTo>
                    <a:pt x="690" y="2183"/>
                  </a:lnTo>
                  <a:lnTo>
                    <a:pt x="649" y="2193"/>
                  </a:lnTo>
                  <a:lnTo>
                    <a:pt x="619" y="2202"/>
                  </a:lnTo>
                  <a:lnTo>
                    <a:pt x="588" y="2211"/>
                  </a:lnTo>
                  <a:lnTo>
                    <a:pt x="558" y="2211"/>
                  </a:lnTo>
                  <a:lnTo>
                    <a:pt x="527" y="2221"/>
                  </a:lnTo>
                  <a:lnTo>
                    <a:pt x="497" y="2230"/>
                  </a:lnTo>
                  <a:lnTo>
                    <a:pt x="467" y="2240"/>
                  </a:lnTo>
                  <a:lnTo>
                    <a:pt x="447" y="2240"/>
                  </a:lnTo>
                  <a:lnTo>
                    <a:pt x="416" y="2240"/>
                  </a:lnTo>
                  <a:lnTo>
                    <a:pt x="395" y="2240"/>
                  </a:lnTo>
                  <a:lnTo>
                    <a:pt x="355" y="2240"/>
                  </a:lnTo>
                  <a:lnTo>
                    <a:pt x="325" y="2230"/>
                  </a:lnTo>
                  <a:lnTo>
                    <a:pt x="295" y="2211"/>
                  </a:lnTo>
                  <a:lnTo>
                    <a:pt x="274" y="2183"/>
                  </a:lnTo>
                  <a:lnTo>
                    <a:pt x="243" y="2136"/>
                  </a:lnTo>
                  <a:lnTo>
                    <a:pt x="243" y="2108"/>
                  </a:lnTo>
                  <a:lnTo>
                    <a:pt x="234" y="2088"/>
                  </a:lnTo>
                  <a:lnTo>
                    <a:pt x="234" y="2060"/>
                  </a:lnTo>
                  <a:lnTo>
                    <a:pt x="223" y="2023"/>
                  </a:lnTo>
                  <a:lnTo>
                    <a:pt x="223" y="1975"/>
                  </a:lnTo>
                  <a:lnTo>
                    <a:pt x="234" y="1956"/>
                  </a:lnTo>
                  <a:lnTo>
                    <a:pt x="243" y="1938"/>
                  </a:lnTo>
                  <a:lnTo>
                    <a:pt x="254" y="1918"/>
                  </a:lnTo>
                  <a:lnTo>
                    <a:pt x="254" y="1899"/>
                  </a:lnTo>
                  <a:lnTo>
                    <a:pt x="254" y="1871"/>
                  </a:lnTo>
                  <a:lnTo>
                    <a:pt x="274" y="1843"/>
                  </a:lnTo>
                  <a:lnTo>
                    <a:pt x="295" y="1824"/>
                  </a:lnTo>
                  <a:lnTo>
                    <a:pt x="295" y="1805"/>
                  </a:lnTo>
                  <a:lnTo>
                    <a:pt x="304" y="1786"/>
                  </a:lnTo>
                  <a:lnTo>
                    <a:pt x="315" y="1758"/>
                  </a:lnTo>
                  <a:lnTo>
                    <a:pt x="315" y="1729"/>
                  </a:lnTo>
                  <a:lnTo>
                    <a:pt x="325" y="1711"/>
                  </a:lnTo>
                  <a:lnTo>
                    <a:pt x="325" y="1691"/>
                  </a:lnTo>
                  <a:lnTo>
                    <a:pt x="334" y="1673"/>
                  </a:lnTo>
                  <a:lnTo>
                    <a:pt x="334" y="1654"/>
                  </a:lnTo>
                  <a:lnTo>
                    <a:pt x="334" y="1635"/>
                  </a:lnTo>
                  <a:lnTo>
                    <a:pt x="334" y="1606"/>
                  </a:lnTo>
                  <a:lnTo>
                    <a:pt x="334" y="1578"/>
                  </a:lnTo>
                  <a:lnTo>
                    <a:pt x="315" y="1550"/>
                  </a:lnTo>
                  <a:lnTo>
                    <a:pt x="304" y="1521"/>
                  </a:lnTo>
                  <a:lnTo>
                    <a:pt x="284" y="1493"/>
                  </a:lnTo>
                  <a:lnTo>
                    <a:pt x="254" y="1484"/>
                  </a:lnTo>
                  <a:lnTo>
                    <a:pt x="234" y="1446"/>
                  </a:lnTo>
                  <a:lnTo>
                    <a:pt x="213" y="1446"/>
                  </a:lnTo>
                  <a:lnTo>
                    <a:pt x="203" y="1427"/>
                  </a:lnTo>
                  <a:lnTo>
                    <a:pt x="173" y="1417"/>
                  </a:lnTo>
                  <a:lnTo>
                    <a:pt x="152" y="1417"/>
                  </a:lnTo>
                  <a:lnTo>
                    <a:pt x="132" y="1399"/>
                  </a:lnTo>
                  <a:lnTo>
                    <a:pt x="122" y="1379"/>
                  </a:lnTo>
                  <a:lnTo>
                    <a:pt x="122" y="1351"/>
                  </a:lnTo>
                  <a:lnTo>
                    <a:pt x="143" y="1332"/>
                  </a:lnTo>
                  <a:lnTo>
                    <a:pt x="152" y="1314"/>
                  </a:lnTo>
                  <a:lnTo>
                    <a:pt x="152" y="1294"/>
                  </a:lnTo>
                  <a:lnTo>
                    <a:pt x="173" y="1276"/>
                  </a:lnTo>
                  <a:lnTo>
                    <a:pt x="182" y="1257"/>
                  </a:lnTo>
                  <a:lnTo>
                    <a:pt x="203" y="1238"/>
                  </a:lnTo>
                  <a:lnTo>
                    <a:pt x="213" y="1209"/>
                  </a:lnTo>
                  <a:lnTo>
                    <a:pt x="223" y="1191"/>
                  </a:lnTo>
                  <a:lnTo>
                    <a:pt x="234" y="1172"/>
                  </a:lnTo>
                  <a:lnTo>
                    <a:pt x="234" y="1153"/>
                  </a:lnTo>
                  <a:lnTo>
                    <a:pt x="243" y="1134"/>
                  </a:lnTo>
                  <a:lnTo>
                    <a:pt x="234" y="1115"/>
                  </a:lnTo>
                  <a:lnTo>
                    <a:pt x="223" y="1096"/>
                  </a:lnTo>
                  <a:lnTo>
                    <a:pt x="223" y="1077"/>
                  </a:lnTo>
                  <a:lnTo>
                    <a:pt x="223" y="1059"/>
                  </a:lnTo>
                  <a:lnTo>
                    <a:pt x="223" y="1039"/>
                  </a:lnTo>
                  <a:lnTo>
                    <a:pt x="223" y="103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1"/>
            <a:stretch/>
          </p:blipFill>
          <p:spPr>
            <a:xfrm>
              <a:off x="1925640" y="1849320"/>
              <a:ext cx="5867280" cy="30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 flipH="1">
            <a:off x="1860120" y="3525840"/>
            <a:ext cx="1335240" cy="20876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006560" y="5721480"/>
            <a:ext cx="253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’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chn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er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616720" y="5100480"/>
            <a:ext cx="174600" cy="561960"/>
          </a:xfrm>
          <a:prstGeom prst="line">
            <a:avLst/>
          </a:prstGeom>
          <a:ln w="7632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99480" y="5738760"/>
            <a:ext cx="2894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812880" y="0"/>
            <a:ext cx="7385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b">
            <a:noAutofit/>
          </a:bodyPr>
          <a:p>
            <a:pPr algn="ct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9f0000"/>
                </a:solidFill>
                <a:latin typeface="Times New Roman"/>
              </a:rPr>
              <a:t>Making Digital Libraries Infrastructure Requires New Conceptualizations of the Future (imag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985680" y="1306440"/>
            <a:ext cx="69012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76280" y="30456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1361b"/>
                </a:solidFill>
                <a:latin typeface="Times New Roman"/>
              </a:rPr>
              <a:t>Goals for the Future</a:t>
            </a:r>
            <a:endParaRPr b="1" i="1" lang="en-US" sz="32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Gather information and build collections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(to better use what we have and discover what is missing...)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Create new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(to communicate and collabo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" y="4267080"/>
            <a:ext cx="815328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Make technology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(from our awareness and experi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7586640" y="266760"/>
            <a:ext cx="12654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1200" y="2320920"/>
            <a:ext cx="4864320" cy="33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negie Mellon University:  Digital Video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ch, image and natural language technologies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 of  Michigan:  Intelligent Agent Archite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source federation;  artificial service market economies; educational i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nford Univ: Uniform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operability; protocols &amp; standards; distributed object architectures; interface design for distributed information retrei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24640" y="2284560"/>
            <a:ext cx="3289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ull-content search and retrieval of video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99040" y="4997520"/>
            <a:ext cx="291960" cy="152280"/>
          </a:xfrm>
          <a:prstGeom prst="rightArrow">
            <a:avLst>
              <a:gd name="adj1" fmla="val 50000"/>
              <a:gd name="adj2" fmla="val 9587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24640" y="4748040"/>
            <a:ext cx="3213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eneral access, extensibility for heterogeneous distributed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99040" y="3701880"/>
            <a:ext cx="291960" cy="152640"/>
          </a:xfrm>
          <a:prstGeom prst="rightArrow">
            <a:avLst>
              <a:gd name="adj1" fmla="val 50000"/>
              <a:gd name="adj2" fmla="val 9564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24640" y="3516480"/>
            <a:ext cx="3441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ew DL cross-disciplinary capabilities,  intellectual perspectives and lin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99040" y="2508120"/>
            <a:ext cx="291960" cy="152640"/>
          </a:xfrm>
          <a:prstGeom prst="rightArrow">
            <a:avLst>
              <a:gd name="adj1" fmla="val 50000"/>
              <a:gd name="adj2" fmla="val 9564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6240" y="333360"/>
            <a:ext cx="5871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Libraries Initiative (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ase 1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6920" y="166212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ject/Research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46880" y="1662120"/>
            <a:ext cx="194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arch go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86640" y="266760"/>
            <a:ext cx="126540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57120" y="361800"/>
            <a:ext cx="724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1361b"/>
                </a:solidFill>
                <a:latin typeface="Times New Roman"/>
              </a:rPr>
              <a:t>For More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76200" y="1260360"/>
            <a:ext cx="8178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Digital Libraries Initiative National Home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http://www.dli2.nsf.gov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NSF-EU International Working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http://www.si.umich.edu/UMDL/EU_Grant/home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http://www.iei.pi.cnr.it/DELOS//NSF/nsf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D-Lib Magaz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http://www.dlib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"/>
          <p:cNvGraphicFramePr/>
          <p:nvPr/>
        </p:nvGraphicFramePr>
        <p:xfrm>
          <a:off x="1765440" y="919080"/>
          <a:ext cx="554508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919080"/>
                    <a:ext cx="554508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901080" y="39204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I-2 Round 1 A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723640" y="6583320"/>
            <a:ext cx="25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IS Bulletin October/Novem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2" name=""/>
          <p:cNvGraphicFramePr/>
          <p:nvPr/>
        </p:nvGraphicFramePr>
        <p:xfrm>
          <a:off x="1798560" y="2176560"/>
          <a:ext cx="5545080" cy="250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8560" y="2176560"/>
                    <a:ext cx="554508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963720" y="39204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I-2 Round 1 Awards - Inter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23640" y="6370560"/>
            <a:ext cx="25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IS Bulletin October/Novem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578520" y="426960"/>
            <a:ext cx="64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I-2 Round 1 Awards - Undergraduate 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1798560" y="2008080"/>
          <a:ext cx="5545080" cy="28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8560" y="2008080"/>
                    <a:ext cx="554508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"/>
          <p:cNvSpPr/>
          <p:nvPr/>
        </p:nvSpPr>
        <p:spPr>
          <a:xfrm>
            <a:off x="5723640" y="6370560"/>
            <a:ext cx="25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IS Bulletin October/Novem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1755720" y="1208160"/>
          <a:ext cx="5630760" cy="444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208160"/>
                    <a:ext cx="563076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2" name=""/>
          <p:cNvSpPr/>
          <p:nvPr/>
        </p:nvSpPr>
        <p:spPr>
          <a:xfrm>
            <a:off x="449640" y="378000"/>
            <a:ext cx="56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LI-2 Principal Investigator Depar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23640" y="6370560"/>
            <a:ext cx="25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IS Bulletin October/Novem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"/>
          <p:cNvGraphicFramePr/>
          <p:nvPr/>
        </p:nvGraphicFramePr>
        <p:xfrm>
          <a:off x="977760" y="1366920"/>
          <a:ext cx="706752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1366920"/>
                    <a:ext cx="70675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"/>
          <p:cNvSpPr/>
          <p:nvPr/>
        </p:nvSpPr>
        <p:spPr>
          <a:xfrm>
            <a:off x="866880" y="441360"/>
            <a:ext cx="56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Times New Roman"/>
              </a:rPr>
              <a:t>DLI-2 Technology Focus by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23640" y="6370560"/>
            <a:ext cx="25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IS Bulletin October/Novem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2281320" y="1689120"/>
          <a:ext cx="5630760" cy="434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1689120"/>
                    <a:ext cx="563076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901800" y="307800"/>
            <a:ext cx="49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Times New Roman"/>
              </a:rPr>
              <a:t>DLI-2 Content Focus by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3640" y="6370560"/>
            <a:ext cx="25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IS Bulletin October/Novem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6920" y="166212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ject/Research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200" y="2320920"/>
            <a:ext cx="486432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 of California, Santa Barbara: Geographic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atially-indexed data; content-based retrieval; image-compression; 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 of Illinois:  Intelligent Search and the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-scale information retrieval across knowledge domains; semantic search; SGML; user/usage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 of California, Berkeley: Media Integration and Acces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models of “documents”; natural language processing; content-based image retrieval; innovative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24640" y="2360520"/>
            <a:ext cx="3289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sources for geosciences research and education commun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37200" y="5429160"/>
            <a:ext cx="291960" cy="152640"/>
          </a:xfrm>
          <a:prstGeom prst="rightArrow">
            <a:avLst>
              <a:gd name="adj1" fmla="val 50000"/>
              <a:gd name="adj2" fmla="val 9564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00600" y="5218200"/>
            <a:ext cx="3213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ew models and services for multi-media information management in a networked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24600" y="4083120"/>
            <a:ext cx="291960" cy="152280"/>
          </a:xfrm>
          <a:prstGeom prst="rightArrow">
            <a:avLst>
              <a:gd name="adj1" fmla="val 50000"/>
              <a:gd name="adj2" fmla="val 9587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11680" y="3795840"/>
            <a:ext cx="34419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emantic retrieval across the net; alternatives for publishers of scientific jour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99040" y="2571840"/>
            <a:ext cx="291960" cy="152280"/>
          </a:xfrm>
          <a:prstGeom prst="rightArrow">
            <a:avLst>
              <a:gd name="adj1" fmla="val 50000"/>
              <a:gd name="adj2" fmla="val 9587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46880" y="1662120"/>
            <a:ext cx="194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arch go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86640" y="266760"/>
            <a:ext cx="1265400" cy="1270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6240" y="333360"/>
            <a:ext cx="5871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Libraries Initiative (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ase 1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920" y="2181240"/>
            <a:ext cx="216108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uter &amp;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Equipment Co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x Co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x P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 Co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l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man Kodak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kh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 Tech Co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prise Integration (E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l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oft Co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l Atlantic Network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wlett Pack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qu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S/Data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y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tac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47920" y="4695840"/>
            <a:ext cx="252720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fessional Socie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Math Society (A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Institute of Aeronau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tronautics (AI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Physic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Institute of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on of Research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90960" y="3705120"/>
            <a:ext cx="17298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vernment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L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MA/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S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SA/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 Agcy of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Diego Assn of Gov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7280" y="4010040"/>
            <a:ext cx="16628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 Site Univ 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G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tate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oma County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. Louis Public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York Public 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6200" y="2181240"/>
            <a:ext cx="1765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her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 of M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 of Ariz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University, U.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 of Wiscon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 of Colo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l Un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3760" y="2181240"/>
            <a:ext cx="213048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blishers/Content 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sevier Scienc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yclopedia Britan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Graw-Hill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 Inform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'Rei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S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ED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Wiley &amp; 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News &amp; Worl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T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une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7920" y="946080"/>
            <a:ext cx="7383600" cy="749520"/>
            <a:chOff x="907920" y="946080"/>
            <a:chExt cx="7383600" cy="749520"/>
          </a:xfrm>
        </p:grpSpPr>
        <p:sp>
          <p:nvSpPr>
            <p:cNvPr id="86" name=""/>
            <p:cNvSpPr/>
            <p:nvPr/>
          </p:nvSpPr>
          <p:spPr>
            <a:xfrm>
              <a:off x="920880" y="963720"/>
              <a:ext cx="73706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-  DLI Lead Institutions  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negie Mellon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versity of California, Berkeley    University of Illino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nford University       University of Michigan                    Univ of California, Santa Barba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7920" y="946080"/>
              <a:ext cx="7302600" cy="74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692760" y="5305320"/>
            <a:ext cx="21672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her/Non-Pro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Systems Res I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lon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llogg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y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15720" y="2181240"/>
            <a:ext cx="20574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mary &amp; Seco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-local comm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rfax County Public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chester-Thurston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 Arbor Public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High School, NY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sta County Ofc of 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440" y="2216160"/>
            <a:ext cx="897912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765200" y="1720800"/>
            <a:ext cx="369000" cy="444600"/>
            <a:chOff x="7765200" y="1720800"/>
            <a:chExt cx="369000" cy="444600"/>
          </a:xfrm>
        </p:grpSpPr>
        <p:sp>
          <p:nvSpPr>
            <p:cNvPr id="92" name=""/>
            <p:cNvSpPr/>
            <p:nvPr/>
          </p:nvSpPr>
          <p:spPr>
            <a:xfrm flipH="1" rot="16200000">
              <a:off x="7840800" y="1873080"/>
              <a:ext cx="216000" cy="3682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7841880" y="1644480"/>
              <a:ext cx="216000" cy="3682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120040" y="1787400"/>
            <a:ext cx="443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low of Resources, Technologies, Knowledge, Intellectual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58680" y="1733400"/>
            <a:ext cx="368640" cy="444600"/>
            <a:chOff x="958680" y="1733400"/>
            <a:chExt cx="368640" cy="444600"/>
          </a:xfrm>
        </p:grpSpPr>
        <p:sp>
          <p:nvSpPr>
            <p:cNvPr id="96" name=""/>
            <p:cNvSpPr/>
            <p:nvPr/>
          </p:nvSpPr>
          <p:spPr>
            <a:xfrm flipH="1" rot="16200000">
              <a:off x="1035000" y="1885680"/>
              <a:ext cx="216000" cy="36864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1035000" y="1657080"/>
              <a:ext cx="216000" cy="36864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786200" y="5533920"/>
            <a:ext cx="1405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national O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2960" y="123840"/>
            <a:ext cx="6189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LI Collaboration and Partn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66920" y="685800"/>
            <a:ext cx="6553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Libraries Initiative – Pha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46520" y="1496880"/>
            <a:ext cx="579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onsoring Agencies and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F (CISE, SBE, EHR/DU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Library of Medi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on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Endowment for the Huma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Arch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ithson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for Museum and Library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560" y="22669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ww.dli2.nsf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610480" cy="293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e Sponsors: NSF, DARPA, NLM, LoC, NASA, NEH</a:t>
            </a:r>
            <a:endParaRPr b="1" lang="en-US" sz="1800" spc="-1" strike="noStrike">
              <a:solidFill>
                <a:srgbClr val="140e8e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~$8-10 million/yr for 4-5 years (beginning FY98)</a:t>
            </a:r>
            <a:endParaRPr b="1" lang="en-US" sz="1800" spc="-1" strike="noStrike">
              <a:solidFill>
                <a:srgbClr val="140e8e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onsor a full-spectrum of activities: fundamental research, content &amp; collections development, domain applications, testbeds, operational environments, new resources for education and preserving America’s cultural heritage</a:t>
            </a:r>
            <a:endParaRPr b="1" lang="en-US" sz="1800" spc="-1" strike="noStrike">
              <a:solidFill>
                <a:srgbClr val="140e8e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 topics over entire DL lifecycle:  information creation, dissemination, access, use, preservation, impact, contexts</a:t>
            </a:r>
            <a:endParaRPr b="1" lang="en-US" sz="1800" spc="-1" strike="noStrike">
              <a:solidFill>
                <a:srgbClr val="140e8e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 a modular, open program structure:  add new sponsors, performers, projects at any time</a:t>
            </a:r>
            <a:endParaRPr b="1" lang="en-US" sz="18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61440" y="609480"/>
            <a:ext cx="706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1361b"/>
                </a:solidFill>
                <a:latin typeface="Times New Roman"/>
              </a:rPr>
              <a:t>Digital Libraries Initiative - Phase 2</a:t>
            </a:r>
            <a:endParaRPr b="1" i="1" lang="en-US" sz="32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3440" y="5016600"/>
            <a:ext cx="8308800" cy="101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 Goa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DL research, technologies and applications to advance the use of distribut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ed information of all types around the nation and the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86640" y="266760"/>
            <a:ext cx="126540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4200" y="1433520"/>
            <a:ext cx="304812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, technology-cent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b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echnology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nt/col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ated to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estbe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ily user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ttp://dli.grainger.uiuc.edu/dli/national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6760" y="1433520"/>
            <a:ext cx="525456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I - Ph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ined technical scope; extend to new areas and dimensions in the DL information life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b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DL research with added emphasis on interoperability &amp; technology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nt/col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d emphasis on content, collections development an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al DLs with collections of value to domain and other “communities” of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standing DLs in domain, economic, social, international contexts; DLs as Hu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240" y="6451560"/>
            <a:ext cx="881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880" y="612468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63118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0920" y="612468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680" y="657360"/>
            <a:ext cx="695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ison of DLI with DLI - Pha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1606680"/>
            <a:ext cx="0" cy="45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86640" y="266760"/>
            <a:ext cx="126540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78400" y="281160"/>
            <a:ext cx="4013280" cy="638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5200" y="1838160"/>
            <a:ext cx="42336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deral High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and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2-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11:08:45Z</dcterms:created>
  <dc:creator>jdaen</dc:creator>
  <dc:description/>
  <dc:language>en-US</dc:language>
  <cp:lastModifiedBy>Joe Henderson</cp:lastModifiedBy>
  <cp:lastPrinted>1999-12-06T19:12:22Z</cp:lastPrinted>
  <dcterms:modified xsi:type="dcterms:W3CDTF">1999-12-21T13:24:18Z</dcterms:modified>
  <cp:revision>127</cp:revision>
  <dc:subject/>
  <dc:title>Computer Science:  The Science of Information</dc:title>
</cp:coreProperties>
</file>